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9BB9-C9A3-4EAF-8F70-CDD0A371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D067-35B6-49AD-BC89-63385B1C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3173-0FD7-4551-AD25-20D04C6F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62B0-5276-4A5E-9926-7C065867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A968-93AA-4681-9582-29B2F618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0464-3587-41EC-A582-E2F2DF39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DD9B-6EFF-463E-B272-D35CADF4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2AD1-593D-4DD7-AE50-0CE3155E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492D-A260-48F4-8E06-75B3641D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C135-E3AF-4A17-8571-CDE9995A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2209-0A46-4651-A129-74DD7B17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F0B-97ED-4FE2-8B82-55789F7E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B3D6-9E69-4343-B2E6-3FBC5A5E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0ACA-FA10-4E16-87C0-03B234E1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0F41-2F79-45D8-9176-E39E6F93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2619-322C-47F6-AA96-7C6FB991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135E-EBDF-4C71-AF73-C5F13C5C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F3A-3963-457D-B225-C700D0E6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4781-2AE3-4DAD-B15D-FD05D97F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E80F-ED87-4D8D-BFBD-C487CFD5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D691-5248-487D-A0C6-9BBD4BB4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E61-22E7-4E7B-B79C-511BDEC2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1A29-FF3D-455B-A58A-4419D0EC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26E7-BA24-46A4-A46D-B2CF5897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FF6D-1BF2-4211-8923-5318C7CEC2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79B2-7BBA-4CE9-9C88-3BB7B32097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gif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athedral.ru/sampsonievsky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6116760" cy="1470240"/>
          </a:xfrm>
          <a:prstGeom prst="rect">
            <a:avLst/>
          </a:prstGeom>
          <a:solidFill>
            <a:srgbClr val="ffff00"/>
          </a:solidFill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e4a8"/>
                </a:solidFill>
                <a:latin typeface="Tahoma"/>
              </a:rPr>
              <a:t>Заочное</a:t>
            </a:r>
            <a:r>
              <a:rPr b="1" lang="en-US" sz="40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e4a8"/>
                </a:solidFill>
                <a:latin typeface="Tahoma"/>
              </a:rPr>
              <a:t>путешествие</a:t>
            </a:r>
            <a:br>
              <a:rPr sz="2400"/>
            </a:br>
            <a:r>
              <a:rPr b="1" lang="en-US" sz="3200" spc="-1" strike="noStrike">
                <a:solidFill>
                  <a:srgbClr val="00e4a8"/>
                </a:solidFill>
                <a:latin typeface="Tahoma"/>
              </a:rPr>
              <a:t>«</a:t>
            </a:r>
            <a:r>
              <a:rPr b="1" i="1" lang="en-US" sz="3200" spc="-1" strike="noStrike">
                <a:solidFill>
                  <a:srgbClr val="00e4a8"/>
                </a:solidFill>
                <a:latin typeface="Tahoma"/>
              </a:rPr>
              <a:t>Исторические</a:t>
            </a:r>
            <a:r>
              <a:rPr b="1" lang="en-US" sz="32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00e4a8"/>
                </a:solidFill>
                <a:latin typeface="Tahoma"/>
              </a:rPr>
              <a:t>места</a:t>
            </a:r>
            <a:br>
              <a:rPr sz="3200"/>
            </a:br>
            <a:r>
              <a:rPr b="1" i="1" lang="en-US" sz="3200" spc="-1" strike="noStrike">
                <a:solidFill>
                  <a:srgbClr val="00e4a8"/>
                </a:solidFill>
                <a:latin typeface="Tahoma"/>
              </a:rPr>
              <a:t> Санкт- Петербурга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858920" y="5938560"/>
            <a:ext cx="3529080" cy="919080"/>
          </a:xfrm>
          <a:prstGeom prst="rect">
            <a:avLst/>
          </a:prstGeom>
          <a:solidFill>
            <a:srgbClr val="ffff00"/>
          </a:solidFill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e4a8"/>
                </a:solidFill>
                <a:latin typeface="Tahoma"/>
              </a:rPr>
              <a:t>Автор работ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e4a8"/>
                </a:solidFill>
                <a:latin typeface="Tahoma"/>
              </a:rPr>
              <a:t>Кургашова С.Г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e4a8"/>
                </a:solidFill>
                <a:latin typeface="Tahoma"/>
              </a:rPr>
              <a:t>учитель МБОУ СОШ №2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e4a8"/>
                </a:solidFill>
                <a:latin typeface="Tahoma"/>
              </a:rPr>
              <a:t>ст.Ладожской Усть-Лабин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4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пасо – Преображенский соб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5832360" cy="4248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-169560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169560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1768320"/>
            <a:ext cx="2595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ядный, величественный пятиглавый Спасо-Преображенский собор обрел свой нынешний архитектурный облик в 1829 году, хотя история его насчитывает три столе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885080" y="5084640"/>
            <a:ext cx="992160" cy="1538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405320" y="326232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405320" y="326232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3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79292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нязь – Владимирский соб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48240" y="1916280"/>
            <a:ext cx="4595760" cy="4608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11280" y="1911600"/>
            <a:ext cx="370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нязь-Владимирский собор, расположенный в старейшей части города – на Петроградской стороне, занимает особое место среди православных святынь Санкт-Петербурга. История храма непосредственно связана с трёхвековой истори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3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7280" y="47628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етропавловская креп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3666960" cy="4895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64000" y="1984680"/>
            <a:ext cx="360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пость была заложена в 1703 году. Отсюда начинался Петербург. Сначала деревянная, Петропавловской крепости является Петропавловский собор (Доменико Трезини, 1712 г.)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3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етропавловская креп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88000" y="2133720"/>
            <a:ext cx="374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ahoma"/>
              </a:rPr>
              <a:t>Под сводами собора с роскошными люстрами, среди колонн нежных розового и зеленого цветов, обрели покой Романовы. Первым из монархов здесь был похоронен Петр I, и с тех пор собор становится императорской усыпальницей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2962440" cy="44895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3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048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eorgia"/>
              </a:rPr>
              <a:t>Спасибо за внимание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advTm="4000">
    <p:strips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21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221840" y="285480"/>
            <a:ext cx="7650360" cy="13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277040" cy="37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знакомить учащихся с историческими местами Санкт – Петербург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спитывать у детей любовь к Родине, уважение к её историческому прошлом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885080" y="5084640"/>
            <a:ext cx="992160" cy="1538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3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Государственный Эрмита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4537080" cy="3208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076720" y="2129760"/>
            <a:ext cx="381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рмитаж – один из самых известных и огромных музеев мира. Музейный комплекс включает в себя семь зданий, расположенных на набережной Невы, Дворцовой площади и Миллионной ули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885080" y="5084640"/>
            <a:ext cx="992160" cy="1538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3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Государственный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усский музе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3280" y="1916280"/>
            <a:ext cx="3937320" cy="4397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1754280"/>
            <a:ext cx="42494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узей размещается в зданиях, расположенных в историческом центре Санк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етербург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Строгановский и Мраморный дворцы, Михайловский (Инженерный) замок и главное здание музея – Михайловский дворец с корпусом Бену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ихайловский дворец построен в стиле позднего классицизма архитектором Карло Росси для великого князя Михаила Павловича. Покровитель всего русского Александр III вынашивал план создания в Михайловском дворце музея русского искусства, и такой музей здесь был открыт. Правда, произошло это уже при Николае II в 1898 году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151840" y="5319720"/>
            <a:ext cx="992160" cy="15382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3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етний дворе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4608360" cy="3009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19640" y="2190240"/>
            <a:ext cx="36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тний сад Петр Первый начал создавать в 1704 году в версальском стиле. После наводнения 1777 года сад стал английским, сохранив от версальского лишь 250 итальянских скульптур. При Николае I сад был открыт «для респектабельно одетой публики» и стал местом прогулок Евгения Онегина, а в 1854 году здесь установили статую баснописца Ивана Андреевича Крыл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3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Юсуповский дворе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8496360" cy="3355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0920" y="198900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ин из четырех дворцов богатейшего русского княжеского рода Юсуповых (построен в 1760 г). Юсуповы – один из самых блистательных аристократических домов России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3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саакиевский соб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5364000" cy="4732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56360" y="1944360"/>
            <a:ext cx="273672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аакиевский собор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один из самых крупных соборов мира, самый большой в Петербурге, бывший главный кафедральный собор Росси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ор строился 40 лет по проекту Огюста Монферана (начало строительства – 1818 год)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рам способен вместить 10 тысяч человек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убранство его ушло 400 кг золота, 16 тонн малахита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3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Христова Храм Воскресения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пас - на –кров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580000" y="1844640"/>
            <a:ext cx="3157560" cy="4824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1768320"/>
            <a:ext cx="4427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ам построен на месте убийства Александра II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ение о строительстве храма наследник престола Александр III принимает уже на следующий де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 выполняют Альфред Парланд и Игнатий Малышев в стиле допетровской Руси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езультате в европейском городе появляется сказочный восточный собор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3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ампсониевский соб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фото с сайта http://www.cathedral.ru/sampsonievsk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205000"/>
            <a:ext cx="3967200" cy="376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16360" y="1984320"/>
            <a:ext cx="41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псониевский собор – уникальный памятник истории и архитектуры первой половины XVIII века, возведенный по велению Петра I в честь победы русской армии над шведами в сражении под Полтавой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я архитектора этого храма до сих пор доподлинно неизвест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3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07:45:24Z</dcterms:created>
  <dc:creator>---</dc:creator>
  <dc:description/>
  <dc:language>en-US</dc:language>
  <cp:lastModifiedBy>1 класс </cp:lastModifiedBy>
  <dcterms:modified xsi:type="dcterms:W3CDTF">2011-05-30T04:58:30Z</dcterms:modified>
  <cp:revision>23</cp:revision>
  <dc:subject/>
  <dc:title>Моя малая Родина</dc:title>
</cp:coreProperties>
</file>