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6EF-FFBB-470A-9CCF-8843C4CA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C1A-A1DD-440E-BE63-FCCEC587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6EC-F835-4002-A27C-CB8C21E4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27D-EF2E-4FDC-9A20-467938C0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B5F9-0C40-4512-9A0E-15E5E504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C64C-1973-42B4-963B-1D0D4F5D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96CE-EAE2-4764-91F7-2BCF12D7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E106-68A7-476D-A77B-A6E20526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86D6-6341-4493-AF85-2572CA7B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EB58-28F8-47AD-9480-ACA23686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72CD-CAEA-4AB6-AACE-27B64B95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D8C-B376-4D77-AC2A-15A51833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8789-E9D9-47EE-BC05-3C39611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BD39-64A8-4AC2-BEB4-FA5A92E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F3A-168A-45CE-AC20-A01B4CAD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C8E2-F3B4-4B1C-B6F0-B602694A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3DD3-04E5-4FD6-9F68-08F5B3A9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644-0083-4E9B-AD81-976ADF9E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9D4-5643-4FB6-A13A-23815168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B2A-6A27-47B2-9C3F-74A8E294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061-72B9-4A7F-A51B-7BCF40F1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F5A-B700-4460-9EB3-522C38A3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B9B-5167-412F-9733-3B254844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FD8F-A62E-4340-8019-EF9E1F5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A455-7547-4BB1-8479-980A997AFD3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4DA-3B48-42C2-B5F6-D8AB0AF57F1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В мире загадок, кроссвордов и ребусов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8920" y="5157720"/>
            <a:ext cx="8713800" cy="15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неклассное мероприятие в 1 классе. Подготовлено учителем МБОУ СОШ № 20 ст.Ладожской  муниципального образования Усть-Лабинский район Конаныхиной Л.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гадки о растениях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тоят сестричк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Белые реснички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Желтые глаз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Погадать тебе? Да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идит в ого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Круглая баб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Зеленых сто шу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Надела и рад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376720" cy="244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281952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13744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тоит Егорка на горк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Каждый, кто мимо идет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оклон ему отдае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тоит в поле красавиц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тан белый да сарафан зелены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543640" y="189000"/>
            <a:ext cx="3282840" cy="5040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68360" y="2781360"/>
            <a:ext cx="24400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гадки о явлениях природ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Шёл долговяз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В землю увяз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Что за круглая гор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осередочке дыра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324036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508720" y="4508640"/>
            <a:ext cx="2448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62040" y="62064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Такой сугроб совсем не тае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На солнце снегом не сверкае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есок в нем солнцем накале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В пустыне ветром занесен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5694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Загадки о животных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Зайцев по лесу гоняет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Кур в  курятнике пугает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В шубу рыжую одет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одскажите, кто же это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39560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Уж очень вид у них чудной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У папы – локон завитой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А мама ходит стриженно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За что она обижена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492360" y="2674800"/>
            <a:ext cx="52279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Этот маленький медвед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На ветвях привык сидеть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Есть и сумка у нег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Для потомства своего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2593800"/>
            <a:ext cx="532944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0000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У  него на теле пятн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Он высок невероятно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ревышает ростом шка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Даже маленький  …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3600" y="549360"/>
            <a:ext cx="3927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В белой шубке он зимой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В серой шубке – в летний зно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Догадайтесь, кто такой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876560" cy="3255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4355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Домашние животны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Привели тут друга мн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И поселили в конур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Только кот наш не пойме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Что за зверь у нас живет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24360" y="2924280"/>
            <a:ext cx="28213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аленький рост, длинный хвос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Собирает крошки. Прячется от кошк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Она всегда на мой «Привет!»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Лишь промурлычет мне в отве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335400" cy="4103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296568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Животное это красивое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 шелковистым хвостом и гривою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Стучат по дороге копытца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Галопом оно лихо мчитс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987640" y="2781360"/>
            <a:ext cx="554508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8:37:13Z</dcterms:created>
  <dc:creator>Лариса</dc:creator>
  <dc:description/>
  <dc:language>en-US</dc:language>
  <cp:lastModifiedBy>Учитель</cp:lastModifiedBy>
  <dcterms:modified xsi:type="dcterms:W3CDTF">2011-06-01T07:06:37Z</dcterms:modified>
  <cp:revision>6</cp:revision>
  <dc:subject/>
  <dc:title>В мире загадок, кроссвордов и ребусов.</dc:title>
</cp:coreProperties>
</file>