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55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.jpeg" ContentType="image/jpeg"/>
  <Override PartName="/ppt/media/image31.png" ContentType="image/png"/>
  <Override PartName="/ppt/media/image29.png" ContentType="image/png"/>
  <Override PartName="/ppt/media/image21.jpeg" ContentType="image/jpeg"/>
  <Override PartName="/ppt/media/image27.png" ContentType="image/png"/>
  <Override PartName="/ppt/media/image59.gif" ContentType="image/gif"/>
  <Override PartName="/ppt/media/image18.jpeg" ContentType="image/jpeg"/>
  <Override PartName="/ppt/media/image22.jpeg" ContentType="image/jpeg"/>
  <Override PartName="/ppt/media/image46.gif" ContentType="image/gif"/>
  <Override PartName="/ppt/media/image42.jpeg" ContentType="image/jpeg"/>
  <Override PartName="/ppt/media/image19.jpeg" ContentType="image/jpeg"/>
  <Override PartName="/ppt/media/image17.jpeg" ContentType="image/jpeg"/>
  <Override PartName="/ppt/media/image49.jpeg" ContentType="image/jpeg"/>
  <Override PartName="/ppt/media/image2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58.gif" ContentType="image/gif"/>
  <Override PartName="/ppt/media/image23.gif" ContentType="image/gif"/>
  <Override PartName="/ppt/media/image8.jpeg" ContentType="image/jpeg"/>
  <Override PartName="/ppt/media/image39.jpeg" ContentType="image/jpeg"/>
  <Override PartName="/ppt/media/image45.gif" ContentType="image/gif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56.jpeg" ContentType="image/jpeg"/>
  <Override PartName="/ppt/media/image34.jpeg" ContentType="image/jpeg"/>
  <Override PartName="/ppt/media/image35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26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50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33.png" ContentType="image/png"/>
  <Override PartName="/ppt/media/image54.jpeg" ContentType="image/jpeg"/>
  <Override PartName="/ppt/media/image10.jpeg" ContentType="image/jpeg"/>
  <Override PartName="/ppt/media/image5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4A2B-E8D6-42D3-A9C5-C0E065F6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3507-A96F-426C-93FA-1F810B2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4888-BFCC-4F76-A516-C0939DB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57D5-CA28-4A34-9E03-70B1BC2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09B0-F2EE-43DF-941B-6DE6F754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0AA-4153-4616-93B4-A57B7AA0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8426-E4F5-42BE-B486-D9D50C6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B24-67BC-42F6-89C1-385FAAEA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2482-78F6-47E8-96B5-8A46924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52B5-9507-4CFC-84D8-94EA163F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7B3B-70FD-485E-AF10-4C8B70AC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F837-D7A7-423A-9B6D-CFC6B8F3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872-9BF6-42EA-A632-02E3065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87E-A3AF-4A23-87D4-E59EF8F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30B1-23FD-4F2A-8576-B6CB15A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E65-A840-4972-BD76-3E4D27E9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1C9E-63D7-4FF5-9D75-9F500DE7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7C57-2796-4667-96C3-6ED26B77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C82F-FBA8-4A0F-9095-125F7F7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45F7-120E-4683-BAB1-4573E9E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0A67-9DBC-4983-A7A7-460537F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5EDB-0366-4A6E-813B-81E9D830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811D-F518-42F0-A28B-385CC7F8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6FE7-E508-4DBF-96B5-58DA0BB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B572-8A59-4B6D-8B1D-D90AF79EAEC6}" type="slidenum">
              <a:rPr b="0" lang="en-US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90A3-A11E-4162-983F-90D13577B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35.jpeg"/><Relationship Id="rId7" Type="http://schemas.openxmlformats.org/officeDocument/2006/relationships/image" Target="../media/image49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44.jpeg"/><Relationship Id="rId4" Type="http://schemas.openxmlformats.org/officeDocument/2006/relationships/image" Target="../media/image8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3.jpeg"/><Relationship Id="rId8" Type="http://schemas.openxmlformats.org/officeDocument/2006/relationships/image" Target="../media/image54.jpeg"/><Relationship Id="rId9" Type="http://schemas.openxmlformats.org/officeDocument/2006/relationships/image" Target="../media/image36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44.jpeg"/><Relationship Id="rId4" Type="http://schemas.openxmlformats.org/officeDocument/2006/relationships/image" Target="../media/image8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3.jpeg"/><Relationship Id="rId8" Type="http://schemas.openxmlformats.org/officeDocument/2006/relationships/image" Target="../media/image54.jpeg"/><Relationship Id="rId9" Type="http://schemas.openxmlformats.org/officeDocument/2006/relationships/image" Target="../media/image36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gif"/><Relationship Id="rId1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jpeg"/><Relationship Id="rId3" Type="http://schemas.openxmlformats.org/officeDocument/2006/relationships/image" Target="../media/image24.jpeg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image" Target="../media/image26.jpe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6624720" cy="287964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0d59"/>
                </a:solidFill>
                <a:latin typeface="Verdana"/>
              </a:rPr>
              <a:t>Урок в 3 классе </a:t>
            </a:r>
            <a:br>
              <a:rPr sz="2000"/>
            </a:br>
            <a:r>
              <a:rPr b="1" lang="ru-RU" sz="2000" spc="-1" strike="noStrike">
                <a:solidFill>
                  <a:srgbClr val="770d59"/>
                </a:solidFill>
                <a:latin typeface="Verdana"/>
              </a:rPr>
              <a:t>по теме </a:t>
            </a:r>
            <a:br>
              <a:rPr sz="2000"/>
            </a:br>
            <a:r>
              <a:rPr b="1" i="1" lang="ru-RU" sz="4000" spc="-1" strike="noStrike">
                <a:solidFill>
                  <a:srgbClr val="770d59"/>
                </a:solidFill>
                <a:latin typeface="Blackadder ITC"/>
              </a:rPr>
              <a:t>«Животноводство»</a:t>
            </a:r>
            <a:br>
              <a:rPr sz="2000"/>
            </a:b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по программе А.А.Плешакова</a:t>
            </a:r>
            <a:br>
              <a:rPr sz="1600"/>
            </a:b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«Окружающий мир»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284360" y="4481640"/>
            <a:ext cx="4608360" cy="190008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Автор: Конаныхина Лариса Владимировна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МБОУ СОШ №20 станицы Ладожск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0d59"/>
                </a:solidFill>
                <a:latin typeface="Verdana"/>
              </a:rPr>
              <a:t>Усть-Лабинского района Краснодарского края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4168800"/>
            <a:ext cx="3311280" cy="2482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160720" cy="14428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804000" y="260280"/>
            <a:ext cx="1943280" cy="14572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9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акая отрасль дает эту  продукцию?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8360" y="1341360"/>
            <a:ext cx="1233360" cy="2521080"/>
            <a:chOff x="468360" y="1341360"/>
            <a:chExt cx="1233360" cy="2521080"/>
          </a:xfrm>
        </p:grpSpPr>
        <p:sp>
          <p:nvSpPr>
            <p:cNvPr id="262" name=""/>
            <p:cNvSpPr/>
            <p:nvPr/>
          </p:nvSpPr>
          <p:spPr>
            <a:xfrm>
              <a:off x="468360" y="1533600"/>
              <a:ext cx="1229760" cy="1785240"/>
            </a:xfrm>
            <a:custGeom>
              <a:avLst/>
              <a:gdLst>
                <a:gd name="textAreaLeft" fmla="*/ 63000 w 1229760"/>
                <a:gd name="textAreaRight" fmla="*/ 1166760 w 1229760"/>
                <a:gd name="textAreaTop" fmla="*/ 63000 h 1785240"/>
                <a:gd name="textAreaBottom" fmla="*/ 1722240 h 1785240"/>
              </a:gdLst>
              <a:ahLst/>
              <a:rect l="textAreaLeft" t="textAreaTop" r="textAreaRight" b="textAreaBottom"/>
              <a:pathLst>
                <a:path w="21600" h="31354">
                  <a:moveTo>
                    <a:pt x="3782" y="0"/>
                  </a:moveTo>
                  <a:arcTo wR="3782" hR="3782" stAng="16200000" swAng="-5400000"/>
                  <a:lnTo>
                    <a:pt x="0" y="27572"/>
                  </a:lnTo>
                  <a:arcTo wR="3782" hR="3782" stAng="10800000" swAng="-5400000"/>
                  <a:lnTo>
                    <a:pt x="17818" y="3135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080" y="1538640"/>
              <a:ext cx="1192680" cy="1751040"/>
            </a:xfrm>
            <a:custGeom>
              <a:avLst/>
              <a:gdLst>
                <a:gd name="textAreaLeft" fmla="*/ 57960 w 1192680"/>
                <a:gd name="textAreaRight" fmla="*/ 1134720 w 1192680"/>
                <a:gd name="textAreaTop" fmla="*/ 57960 h 1751040"/>
                <a:gd name="textAreaBottom" fmla="*/ 1693080 h 1751040"/>
              </a:gdLst>
              <a:ahLst/>
              <a:rect l="textAreaLeft" t="textAreaTop" r="textAreaRight" b="textAreaBottom"/>
              <a:pathLst>
                <a:path w="21600" h="31709">
                  <a:moveTo>
                    <a:pt x="3600" y="0"/>
                  </a:moveTo>
                  <a:arcTo wR="3600" hR="3600" stAng="16200000" swAng="-5400000"/>
                  <a:lnTo>
                    <a:pt x="0" y="28109"/>
                  </a:lnTo>
                  <a:arcTo wR="3600" hR="3600" stAng="10800000" swAng="-5400000"/>
                  <a:lnTo>
                    <a:pt x="18000" y="317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160" y="2827800"/>
              <a:ext cx="1176480" cy="44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7160" y="1552320"/>
              <a:ext cx="1176480" cy="442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960" y="3318840"/>
              <a:ext cx="1229760" cy="543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7160" y="3333600"/>
              <a:ext cx="1176480" cy="48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891360" y="1341360"/>
              <a:ext cx="365400" cy="401400"/>
              <a:chOff x="891360" y="1341360"/>
              <a:chExt cx="365400" cy="40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891360" y="1341360"/>
                <a:ext cx="365400" cy="401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94960" y="1344240"/>
                <a:ext cx="353520" cy="388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99280" y="1346760"/>
                <a:ext cx="345240" cy="37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03240" y="1350360"/>
                <a:ext cx="328320" cy="353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22320" y="1359720"/>
                <a:ext cx="291600" cy="28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895680" y="1398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1560" y="1817280"/>
              <a:ext cx="11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Мёд 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195640" y="1413000"/>
            <a:ext cx="1782360" cy="1957320"/>
            <a:chOff x="2195640" y="1413000"/>
            <a:chExt cx="1782360" cy="1957320"/>
          </a:xfrm>
        </p:grpSpPr>
        <p:sp>
          <p:nvSpPr>
            <p:cNvPr id="277" name=""/>
            <p:cNvSpPr/>
            <p:nvPr/>
          </p:nvSpPr>
          <p:spPr>
            <a:xfrm>
              <a:off x="2195640" y="1562040"/>
              <a:ext cx="177984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22640" y="1566000"/>
              <a:ext cx="1726560" cy="13597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37400" y="2567160"/>
              <a:ext cx="170280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37400" y="1576800"/>
              <a:ext cx="170280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413000"/>
              <a:ext cx="528840" cy="311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13040" y="1415160"/>
              <a:ext cx="511920" cy="301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19880" y="1416600"/>
              <a:ext cx="499680" cy="294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24920" y="1419840"/>
              <a:ext cx="475200" cy="2746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3720" y="1427400"/>
              <a:ext cx="421920" cy="223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0800" y="1459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56840" y="1782360"/>
              <a:ext cx="16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Удобрение 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97800" y="2948400"/>
              <a:ext cx="178020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34520" y="2959920"/>
              <a:ext cx="17028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0" y="1700280"/>
            <a:ext cx="1658520" cy="1957320"/>
            <a:chOff x="4572000" y="1700280"/>
            <a:chExt cx="1658520" cy="1957320"/>
          </a:xfrm>
        </p:grpSpPr>
        <p:sp>
          <p:nvSpPr>
            <p:cNvPr id="291" name=""/>
            <p:cNvSpPr/>
            <p:nvPr/>
          </p:nvSpPr>
          <p:spPr>
            <a:xfrm>
              <a:off x="4576320" y="1849320"/>
              <a:ext cx="1654200" cy="138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2240" y="1853280"/>
              <a:ext cx="1604160" cy="13597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15200" y="2854440"/>
              <a:ext cx="1582560" cy="34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15200" y="1864080"/>
              <a:ext cx="1582560" cy="34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145480" y="1700280"/>
              <a:ext cx="491400" cy="311760"/>
              <a:chOff x="5145480" y="1700280"/>
              <a:chExt cx="491400" cy="311760"/>
            </a:xfrm>
          </p:grpSpPr>
          <p:sp>
            <p:nvSpPr>
              <p:cNvPr id="296" name=""/>
              <p:cNvSpPr/>
              <p:nvPr/>
            </p:nvSpPr>
            <p:spPr>
              <a:xfrm>
                <a:off x="5145480" y="1700280"/>
                <a:ext cx="491400" cy="311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50520" y="1702440"/>
                <a:ext cx="475200" cy="3020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56280" y="1704240"/>
                <a:ext cx="464040" cy="294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61320" y="1707120"/>
                <a:ext cx="441360" cy="27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87240" y="1714680"/>
                <a:ext cx="392040" cy="22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212080" y="17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35000" y="2069640"/>
              <a:ext cx="157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Шерсть 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0" y="3235680"/>
              <a:ext cx="1653840" cy="421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05840" y="3247200"/>
              <a:ext cx="1582200" cy="37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451640" y="4149720"/>
            <a:ext cx="1692360" cy="2708280"/>
            <a:chOff x="7451640" y="4149720"/>
            <a:chExt cx="1692360" cy="2708280"/>
          </a:xfrm>
        </p:grpSpPr>
        <p:sp>
          <p:nvSpPr>
            <p:cNvPr id="306" name=""/>
            <p:cNvSpPr/>
            <p:nvPr/>
          </p:nvSpPr>
          <p:spPr>
            <a:xfrm>
              <a:off x="7451640" y="4356000"/>
              <a:ext cx="1687320" cy="1917720"/>
            </a:xfrm>
            <a:custGeom>
              <a:avLst/>
              <a:gdLst>
                <a:gd name="textAreaLeft" fmla="*/ 86400 w 1687320"/>
                <a:gd name="textAreaRight" fmla="*/ 1600920 w 1687320"/>
                <a:gd name="textAreaTop" fmla="*/ 86400 h 1917720"/>
                <a:gd name="textAreaBottom" fmla="*/ 1831320 h 1917720"/>
              </a:gdLst>
              <a:ahLst/>
              <a:rect l="textAreaLeft" t="textAreaTop" r="textAreaRight" b="textAreaBottom"/>
              <a:pathLst>
                <a:path w="21600" h="24549">
                  <a:moveTo>
                    <a:pt x="3782" y="0"/>
                  </a:moveTo>
                  <a:arcTo wR="3782" hR="3782" stAng="16200000" swAng="-5400000"/>
                  <a:lnTo>
                    <a:pt x="0" y="20767"/>
                  </a:lnTo>
                  <a:arcTo wR="3782" hR="3782" stAng="10800000" swAng="-5400000"/>
                  <a:lnTo>
                    <a:pt x="17818" y="2454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7560" y="4361760"/>
              <a:ext cx="1636560" cy="1881360"/>
            </a:xfrm>
            <a:custGeom>
              <a:avLst/>
              <a:gdLst>
                <a:gd name="textAreaLeft" fmla="*/ 79560 w 1636560"/>
                <a:gd name="textAreaRight" fmla="*/ 1557000 w 1636560"/>
                <a:gd name="textAreaTop" fmla="*/ 79560 h 1881360"/>
                <a:gd name="textAreaBottom" fmla="*/ 1801800 h 1881360"/>
              </a:gdLst>
              <a:ahLst/>
              <a:rect l="textAreaLeft" t="textAreaTop" r="textAreaRight" b="textAreaBottom"/>
              <a:pathLst>
                <a:path w="21600" h="24830">
                  <a:moveTo>
                    <a:pt x="3600" y="0"/>
                  </a:moveTo>
                  <a:arcTo wR="3600" hR="3600" stAng="16200000" swAng="-5400000"/>
                  <a:lnTo>
                    <a:pt x="0" y="21230"/>
                  </a:lnTo>
                  <a:arcTo wR="3600" hR="3600" stAng="10800000" swAng="-5400000"/>
                  <a:lnTo>
                    <a:pt x="18000" y="248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90880" y="5746680"/>
              <a:ext cx="1614240" cy="47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0880" y="4376520"/>
              <a:ext cx="1614240" cy="47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56680" y="6274080"/>
              <a:ext cx="1687320" cy="5839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90880" y="6289920"/>
              <a:ext cx="161424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8031960" y="4149720"/>
              <a:ext cx="501120" cy="431280"/>
              <a:chOff x="8031960" y="4149720"/>
              <a:chExt cx="501120" cy="431280"/>
            </a:xfrm>
          </p:grpSpPr>
          <p:sp>
            <p:nvSpPr>
              <p:cNvPr id="313" name=""/>
              <p:cNvSpPr/>
              <p:nvPr/>
            </p:nvSpPr>
            <p:spPr>
              <a:xfrm>
                <a:off x="8031960" y="4149720"/>
                <a:ext cx="501120" cy="431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37000" y="4152960"/>
                <a:ext cx="484560" cy="417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043120" y="4155480"/>
                <a:ext cx="473400" cy="407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48160" y="4159440"/>
                <a:ext cx="450000" cy="3801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074440" y="4169520"/>
                <a:ext cx="399960" cy="309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8102160" y="421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09600" y="4660920"/>
              <a:ext cx="160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Мех,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шкурка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140360" y="4076640"/>
            <a:ext cx="1233360" cy="2521080"/>
            <a:chOff x="4140360" y="4076640"/>
            <a:chExt cx="1233360" cy="2521080"/>
          </a:xfrm>
        </p:grpSpPr>
        <p:sp>
          <p:nvSpPr>
            <p:cNvPr id="321" name=""/>
            <p:cNvSpPr/>
            <p:nvPr/>
          </p:nvSpPr>
          <p:spPr>
            <a:xfrm>
              <a:off x="4140360" y="4268880"/>
              <a:ext cx="1229760" cy="1785240"/>
            </a:xfrm>
            <a:custGeom>
              <a:avLst/>
              <a:gdLst>
                <a:gd name="textAreaLeft" fmla="*/ 63000 w 1229760"/>
                <a:gd name="textAreaRight" fmla="*/ 1166760 w 1229760"/>
                <a:gd name="textAreaTop" fmla="*/ 63000 h 1785240"/>
                <a:gd name="textAreaBottom" fmla="*/ 1722240 h 1785240"/>
              </a:gdLst>
              <a:ahLst/>
              <a:rect l="textAreaLeft" t="textAreaTop" r="textAreaRight" b="textAreaBottom"/>
              <a:pathLst>
                <a:path w="21600" h="31354">
                  <a:moveTo>
                    <a:pt x="3782" y="0"/>
                  </a:moveTo>
                  <a:arcTo wR="3782" hR="3782" stAng="16200000" swAng="-5400000"/>
                  <a:lnTo>
                    <a:pt x="0" y="27572"/>
                  </a:lnTo>
                  <a:arcTo wR="3782" hR="3782" stAng="10800000" swAng="-5400000"/>
                  <a:lnTo>
                    <a:pt x="17818" y="3135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59080" y="4273920"/>
              <a:ext cx="1192680" cy="1751040"/>
            </a:xfrm>
            <a:custGeom>
              <a:avLst/>
              <a:gdLst>
                <a:gd name="textAreaLeft" fmla="*/ 57960 w 1192680"/>
                <a:gd name="textAreaRight" fmla="*/ 1134720 w 1192680"/>
                <a:gd name="textAreaTop" fmla="*/ 57960 h 1751040"/>
                <a:gd name="textAreaBottom" fmla="*/ 1693080 h 1751040"/>
              </a:gdLst>
              <a:ahLst/>
              <a:rect l="textAreaLeft" t="textAreaTop" r="textAreaRight" b="textAreaBottom"/>
              <a:pathLst>
                <a:path w="21600" h="31709">
                  <a:moveTo>
                    <a:pt x="3600" y="0"/>
                  </a:moveTo>
                  <a:arcTo wR="3600" hR="3600" stAng="16200000" swAng="-5400000"/>
                  <a:lnTo>
                    <a:pt x="0" y="28109"/>
                  </a:lnTo>
                  <a:arcTo wR="3600" hR="3600" stAng="10800000" swAng="-5400000"/>
                  <a:lnTo>
                    <a:pt x="18000" y="317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69160" y="5563080"/>
              <a:ext cx="1176480" cy="44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69160" y="4287600"/>
              <a:ext cx="1176480" cy="442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3960" y="6054120"/>
              <a:ext cx="1229760" cy="543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9160" y="6068880"/>
              <a:ext cx="1176480" cy="482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63360" y="4076640"/>
              <a:ext cx="365400" cy="401400"/>
              <a:chOff x="4563360" y="4076640"/>
              <a:chExt cx="365400" cy="401400"/>
            </a:xfrm>
          </p:grpSpPr>
          <p:sp>
            <p:nvSpPr>
              <p:cNvPr id="328" name=""/>
              <p:cNvSpPr/>
              <p:nvPr/>
            </p:nvSpPr>
            <p:spPr>
              <a:xfrm>
                <a:off x="4563360" y="4076640"/>
                <a:ext cx="365400" cy="401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66960" y="4079520"/>
                <a:ext cx="353520" cy="388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71280" y="4082040"/>
                <a:ext cx="345240" cy="37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75240" y="4085640"/>
                <a:ext cx="328320" cy="353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94320" y="4095000"/>
                <a:ext cx="291600" cy="28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567680" y="413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83560" y="4552560"/>
              <a:ext cx="116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ыба,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кра 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2360" y="1341360"/>
            <a:ext cx="1728360" cy="3024000"/>
            <a:chOff x="6372360" y="1341360"/>
            <a:chExt cx="1728360" cy="3024000"/>
          </a:xfrm>
        </p:grpSpPr>
        <p:sp>
          <p:nvSpPr>
            <p:cNvPr id="336" name=""/>
            <p:cNvSpPr/>
            <p:nvPr/>
          </p:nvSpPr>
          <p:spPr>
            <a:xfrm>
              <a:off x="6372360" y="1571760"/>
              <a:ext cx="1726200" cy="2141640"/>
            </a:xfrm>
            <a:custGeom>
              <a:avLst/>
              <a:gdLst>
                <a:gd name="textAreaLeft" fmla="*/ 88200 w 1726200"/>
                <a:gd name="textAreaRight" fmla="*/ 1638000 w 1726200"/>
                <a:gd name="textAreaTop" fmla="*/ 88200 h 2141640"/>
                <a:gd name="textAreaBottom" fmla="*/ 2053440 h 2141640"/>
              </a:gdLst>
              <a:ahLst/>
              <a:rect l="textAreaLeft" t="textAreaTop" r="textAreaRight" b="textAreaBottom"/>
              <a:pathLst>
                <a:path w="21600" h="26797">
                  <a:moveTo>
                    <a:pt x="3782" y="0"/>
                  </a:moveTo>
                  <a:arcTo wR="3782" hR="3782" stAng="16200000" swAng="-5400000"/>
                  <a:lnTo>
                    <a:pt x="0" y="23015"/>
                  </a:lnTo>
                  <a:arcTo wR="3782" hR="3782" stAng="10800000" swAng="-5400000"/>
                  <a:lnTo>
                    <a:pt x="17818" y="2679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98640" y="1578240"/>
              <a:ext cx="1674360" cy="2100600"/>
            </a:xfrm>
            <a:custGeom>
              <a:avLst/>
              <a:gdLst>
                <a:gd name="textAreaLeft" fmla="*/ 81720 w 1674360"/>
                <a:gd name="textAreaRight" fmla="*/ 1592640 w 1674360"/>
                <a:gd name="textAreaTop" fmla="*/ 81720 h 2100600"/>
                <a:gd name="textAreaBottom" fmla="*/ 2018880 h 2100600"/>
              </a:gdLst>
              <a:ahLst/>
              <a:rect l="textAreaLeft" t="textAreaTop" r="textAreaRight" b="textAreaBottom"/>
              <a:pathLst>
                <a:path w="21600" h="27098">
                  <a:moveTo>
                    <a:pt x="3600" y="0"/>
                  </a:moveTo>
                  <a:arcTo wR="3600" hR="3600" stAng="16200000" swAng="-5400000"/>
                  <a:lnTo>
                    <a:pt x="0" y="23498"/>
                  </a:lnTo>
                  <a:arcTo wR="3600" hR="3600" stAng="10800000" swAng="-5400000"/>
                  <a:lnTo>
                    <a:pt x="18000" y="27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12680" y="3124440"/>
              <a:ext cx="1651320" cy="53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12680" y="1594440"/>
              <a:ext cx="1651320" cy="53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66000" y="1341360"/>
              <a:ext cx="512640" cy="48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71040" y="1344600"/>
              <a:ext cx="496440" cy="466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7520" y="1347120"/>
              <a:ext cx="484560" cy="455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82560" y="1351800"/>
              <a:ext cx="460800" cy="424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0280" y="1363680"/>
              <a:ext cx="408960" cy="344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40520" y="141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30320" y="1910880"/>
              <a:ext cx="16437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еревозка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груза,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умыс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4520" y="3713400"/>
              <a:ext cx="1726200" cy="65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10160" y="3731400"/>
              <a:ext cx="1651320" cy="57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9280" y="3716280"/>
            <a:ext cx="1782360" cy="1525320"/>
            <a:chOff x="179280" y="3716280"/>
            <a:chExt cx="1782360" cy="1525320"/>
          </a:xfrm>
        </p:grpSpPr>
        <p:sp>
          <p:nvSpPr>
            <p:cNvPr id="350" name=""/>
            <p:cNvSpPr/>
            <p:nvPr/>
          </p:nvSpPr>
          <p:spPr>
            <a:xfrm>
              <a:off x="179280" y="3832560"/>
              <a:ext cx="1779840" cy="108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280" y="3835440"/>
              <a:ext cx="1726560" cy="105984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1040" y="4615920"/>
              <a:ext cx="1702800" cy="26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1040" y="3844080"/>
              <a:ext cx="1702800" cy="26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1640" y="3716280"/>
              <a:ext cx="528840" cy="243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680" y="3717720"/>
              <a:ext cx="511920" cy="235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3520" y="3719160"/>
              <a:ext cx="499680" cy="229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8560" y="3721680"/>
              <a:ext cx="475200" cy="214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7360" y="3727440"/>
              <a:ext cx="421920" cy="17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440" y="3750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0480" y="4003560"/>
              <a:ext cx="16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Молоко 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1440" y="4912920"/>
              <a:ext cx="1780200" cy="3286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8160" y="4921920"/>
              <a:ext cx="1702800" cy="29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124000" y="3905280"/>
            <a:ext cx="1658520" cy="2952360"/>
            <a:chOff x="2124000" y="3905280"/>
            <a:chExt cx="1658520" cy="2952360"/>
          </a:xfrm>
        </p:grpSpPr>
        <p:sp>
          <p:nvSpPr>
            <p:cNvPr id="364" name=""/>
            <p:cNvSpPr/>
            <p:nvPr/>
          </p:nvSpPr>
          <p:spPr>
            <a:xfrm>
              <a:off x="2128320" y="4130280"/>
              <a:ext cx="1654200" cy="2090880"/>
            </a:xfrm>
            <a:custGeom>
              <a:avLst/>
              <a:gdLst>
                <a:gd name="textAreaLeft" fmla="*/ 84600 w 1654200"/>
                <a:gd name="textAreaRight" fmla="*/ 1569600 w 1654200"/>
                <a:gd name="textAreaTop" fmla="*/ 84600 h 2090880"/>
                <a:gd name="textAreaBottom" fmla="*/ 2006280 h 2090880"/>
              </a:gdLst>
              <a:ahLst/>
              <a:rect l="textAreaLeft" t="textAreaTop" r="textAreaRight" b="textAreaBottom"/>
              <a:pathLst>
                <a:path w="21600" h="27301">
                  <a:moveTo>
                    <a:pt x="3782" y="0"/>
                  </a:moveTo>
                  <a:arcTo wR="3782" hR="3782" stAng="16200000" swAng="-5400000"/>
                  <a:lnTo>
                    <a:pt x="0" y="23519"/>
                  </a:lnTo>
                  <a:arcTo wR="3782" hR="3782" stAng="10800000" swAng="-5400000"/>
                  <a:lnTo>
                    <a:pt x="17818" y="27301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54240" y="4136400"/>
              <a:ext cx="1604160" cy="2050920"/>
            </a:xfrm>
            <a:custGeom>
              <a:avLst/>
              <a:gdLst>
                <a:gd name="textAreaLeft" fmla="*/ 78120 w 1604160"/>
                <a:gd name="textAreaRight" fmla="*/ 1526040 w 1604160"/>
                <a:gd name="textAreaTop" fmla="*/ 78120 h 2050920"/>
                <a:gd name="textAreaBottom" fmla="*/ 1972800 h 2050920"/>
              </a:gdLst>
              <a:ahLst/>
              <a:rect l="textAreaLeft" t="textAreaTop" r="textAreaRight" b="textAreaBottom"/>
              <a:pathLst>
                <a:path w="21600" h="27614">
                  <a:moveTo>
                    <a:pt x="3600" y="0"/>
                  </a:moveTo>
                  <a:arcTo wR="3600" hR="3600" stAng="16200000" swAng="-5400000"/>
                  <a:lnTo>
                    <a:pt x="0" y="24014"/>
                  </a:lnTo>
                  <a:arcTo wR="3600" hR="3600" stAng="10800000" swAng="-5400000"/>
                  <a:lnTo>
                    <a:pt x="18000" y="27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67200" y="5646240"/>
              <a:ext cx="158256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7200" y="4152600"/>
              <a:ext cx="1582560" cy="51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97480" y="3905280"/>
              <a:ext cx="491400" cy="470160"/>
              <a:chOff x="2697480" y="3905280"/>
              <a:chExt cx="491400" cy="470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97480" y="3905280"/>
                <a:ext cx="491400" cy="470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02520" y="3908880"/>
                <a:ext cx="475200" cy="455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08280" y="3911400"/>
                <a:ext cx="464040" cy="444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13320" y="3915720"/>
                <a:ext cx="441360" cy="4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39240" y="3926880"/>
                <a:ext cx="392040" cy="336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764080" y="397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87000" y="4462560"/>
              <a:ext cx="157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ух.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еро.  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4000" y="6221160"/>
              <a:ext cx="1653840" cy="636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57840" y="6238800"/>
              <a:ext cx="1582200" cy="56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940360" y="4292640"/>
            <a:ext cx="1440000" cy="2087640"/>
            <a:chOff x="5940360" y="4292640"/>
            <a:chExt cx="1440000" cy="2087640"/>
          </a:xfrm>
        </p:grpSpPr>
        <p:sp>
          <p:nvSpPr>
            <p:cNvPr id="379" name=""/>
            <p:cNvSpPr/>
            <p:nvPr/>
          </p:nvSpPr>
          <p:spPr>
            <a:xfrm>
              <a:off x="5944320" y="4451760"/>
              <a:ext cx="1436040" cy="1478160"/>
            </a:xfrm>
            <a:custGeom>
              <a:avLst/>
              <a:gdLst>
                <a:gd name="textAreaLeft" fmla="*/ 73440 w 1436040"/>
                <a:gd name="textAreaRight" fmla="*/ 1362600 w 1436040"/>
                <a:gd name="textAreaTop" fmla="*/ 73440 h 1478160"/>
                <a:gd name="textAreaBottom" fmla="*/ 1404720 h 1478160"/>
              </a:gdLst>
              <a:ahLst/>
              <a:rect l="textAreaLeft" t="textAreaTop" r="textAreaRight" b="textAreaBottom"/>
              <a:pathLst>
                <a:path w="21600" h="22233">
                  <a:moveTo>
                    <a:pt x="3782" y="0"/>
                  </a:moveTo>
                  <a:arcTo wR="3782" hR="3782" stAng="16200000" swAng="-5400000"/>
                  <a:lnTo>
                    <a:pt x="0" y="18451"/>
                  </a:lnTo>
                  <a:arcTo wR="3782" hR="3782" stAng="10800000" swAng="-5400000"/>
                  <a:lnTo>
                    <a:pt x="17818" y="222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66280" y="4456080"/>
              <a:ext cx="1392480" cy="1450080"/>
            </a:xfrm>
            <a:custGeom>
              <a:avLst/>
              <a:gdLst>
                <a:gd name="textAreaLeft" fmla="*/ 67680 w 1392480"/>
                <a:gd name="textAreaRight" fmla="*/ 1324800 w 1392480"/>
                <a:gd name="textAreaTop" fmla="*/ 67680 h 1450080"/>
                <a:gd name="textAreaBottom" fmla="*/ 1382400 h 1450080"/>
              </a:gdLst>
              <a:ahLst/>
              <a:rect l="textAreaLeft" t="textAreaTop" r="textAreaRight" b="textAreaBottom"/>
              <a:pathLst>
                <a:path w="21600" h="22493">
                  <a:moveTo>
                    <a:pt x="3600" y="0"/>
                  </a:moveTo>
                  <a:arcTo wR="3600" hR="3600" stAng="16200000" swAng="-5400000"/>
                  <a:lnTo>
                    <a:pt x="0" y="18893"/>
                  </a:lnTo>
                  <a:arcTo wR="3600" hR="3600" stAng="10800000" swAng="-5400000"/>
                  <a:lnTo>
                    <a:pt x="18000" y="224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77800" y="5523480"/>
              <a:ext cx="1373760" cy="36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77800" y="4467240"/>
              <a:ext cx="1373760" cy="36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438240" y="4292640"/>
              <a:ext cx="426600" cy="332280"/>
              <a:chOff x="6438240" y="4292640"/>
              <a:chExt cx="426600" cy="332280"/>
            </a:xfrm>
          </p:grpSpPr>
          <p:sp>
            <p:nvSpPr>
              <p:cNvPr id="384" name=""/>
              <p:cNvSpPr/>
              <p:nvPr/>
            </p:nvSpPr>
            <p:spPr>
              <a:xfrm>
                <a:off x="6438240" y="4292640"/>
                <a:ext cx="426600" cy="332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2560" y="4295160"/>
                <a:ext cx="412560" cy="321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47600" y="4296960"/>
                <a:ext cx="402840" cy="31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52280" y="4300200"/>
                <a:ext cx="383040" cy="29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74600" y="4307760"/>
                <a:ext cx="340560" cy="238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6473880" y="43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720" y="4685760"/>
              <a:ext cx="13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Яйцо 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360" y="5930280"/>
              <a:ext cx="1435680" cy="450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69520" y="5942520"/>
              <a:ext cx="1373400" cy="39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556000" y="2705040"/>
            <a:ext cx="1511280" cy="1174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7667640" y="836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5435640" y="5292720"/>
            <a:ext cx="13683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0" y="5048280"/>
            <a:ext cx="1428840" cy="1809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885080" y="292428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4356000" y="2637000"/>
            <a:ext cx="1366920" cy="1025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755640" y="2421000"/>
            <a:ext cx="1684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Что и где выращивают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79280" y="907920"/>
            <a:ext cx="8964000" cy="5689080"/>
            <a:chOff x="179280" y="907920"/>
            <a:chExt cx="8964000" cy="5689080"/>
          </a:xfrm>
        </p:grpSpPr>
        <p:sp>
          <p:nvSpPr>
            <p:cNvPr id="402" name=""/>
            <p:cNvSpPr/>
            <p:nvPr/>
          </p:nvSpPr>
          <p:spPr>
            <a:xfrm>
              <a:off x="5793480" y="2184840"/>
              <a:ext cx="3349800" cy="441216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86200" y="2184840"/>
              <a:ext cx="3531240" cy="4412160"/>
            </a:xfrm>
            <a:custGeom>
              <a:avLst/>
              <a:gdLst>
                <a:gd name="textAreaLeft" fmla="*/ 0 w 3531240"/>
                <a:gd name="textAreaRight" fmla="*/ 3531600 w 353124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9280" y="2184840"/>
              <a:ext cx="3531240" cy="4412160"/>
            </a:xfrm>
            <a:custGeom>
              <a:avLst/>
              <a:gdLst>
                <a:gd name="textAreaLeft" fmla="*/ 0 w 3531240"/>
                <a:gd name="textAreaRight" fmla="*/ 3531600 w 353124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f9d6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720" y="907920"/>
              <a:ext cx="2444760" cy="875520"/>
            </a:xfrm>
            <a:prstGeom prst="roundRect">
              <a:avLst>
                <a:gd name="adj" fmla="val 50000"/>
              </a:avLst>
            </a:prstGeom>
            <a:solidFill>
              <a:srgbClr val="3f9d6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 ферме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7240" y="907920"/>
              <a:ext cx="2444760" cy="875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 пруду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74560" y="907920"/>
              <a:ext cx="2444760" cy="875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 пасеке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408" name="Picture 13" descr="dt_6"/>
          <p:cNvPicPr/>
          <p:nvPr/>
        </p:nvPicPr>
        <p:blipFill>
          <a:blip r:embed="rId1"/>
          <a:stretch/>
        </p:blipFill>
        <p:spPr>
          <a:xfrm>
            <a:off x="6516720" y="5157720"/>
            <a:ext cx="1655640" cy="1443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471016"/>
          <p:cNvPicPr/>
          <p:nvPr/>
        </p:nvPicPr>
        <p:blipFill>
          <a:blip r:embed="rId2"/>
          <a:stretch/>
        </p:blipFill>
        <p:spPr>
          <a:xfrm>
            <a:off x="971640" y="2492280"/>
            <a:ext cx="2160360" cy="1749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IMG0015"/>
          <p:cNvPicPr/>
          <p:nvPr/>
        </p:nvPicPr>
        <p:blipFill>
          <a:blip r:embed="rId3"/>
          <a:stretch/>
        </p:blipFill>
        <p:spPr>
          <a:xfrm>
            <a:off x="1763640" y="4508640"/>
            <a:ext cx="1638360" cy="1863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IMG0030"/>
          <p:cNvPicPr/>
          <p:nvPr/>
        </p:nvPicPr>
        <p:blipFill>
          <a:blip r:embed="rId4"/>
          <a:stretch/>
        </p:blipFill>
        <p:spPr>
          <a:xfrm>
            <a:off x="6985080" y="3681360"/>
            <a:ext cx="1834920" cy="143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3"/>
          <p:cNvPicPr/>
          <p:nvPr/>
        </p:nvPicPr>
        <p:blipFill>
          <a:blip r:embed="rId5"/>
          <a:stretch/>
        </p:blipFill>
        <p:spPr>
          <a:xfrm>
            <a:off x="6516720" y="2349360"/>
            <a:ext cx="1728720" cy="1220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res_Изображение2 012"/>
          <p:cNvPicPr/>
          <p:nvPr/>
        </p:nvPicPr>
        <p:blipFill>
          <a:blip r:embed="rId6"/>
          <a:stretch/>
        </p:blipFill>
        <p:spPr>
          <a:xfrm>
            <a:off x="3780000" y="2492280"/>
            <a:ext cx="1942920" cy="1536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3564000" y="4508640"/>
            <a:ext cx="2355840" cy="17668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0" y="4524480"/>
            <a:ext cx="1555920" cy="23335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5292720" y="3429000"/>
            <a:ext cx="1757520" cy="1162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0"/>
          <a:stretch/>
        </p:blipFill>
        <p:spPr>
          <a:xfrm>
            <a:off x="7451640" y="189000"/>
            <a:ext cx="1541520" cy="10270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оверьте себя!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-181080" y="981000"/>
            <a:ext cx="7416720" cy="5689080"/>
            <a:chOff x="-181080" y="981000"/>
            <a:chExt cx="7416720" cy="5689080"/>
          </a:xfrm>
        </p:grpSpPr>
        <p:sp>
          <p:nvSpPr>
            <p:cNvPr id="421" name=""/>
            <p:cNvSpPr/>
            <p:nvPr/>
          </p:nvSpPr>
          <p:spPr>
            <a:xfrm>
              <a:off x="4464000" y="2257920"/>
              <a:ext cx="2771640" cy="4412160"/>
            </a:xfrm>
            <a:custGeom>
              <a:avLst/>
              <a:gdLst>
                <a:gd name="textAreaLeft" fmla="*/ 0 w 2771640"/>
                <a:gd name="textAreaRight" fmla="*/ 2771640 w 277164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41280" y="2257920"/>
              <a:ext cx="2921760" cy="4412160"/>
            </a:xfrm>
            <a:custGeom>
              <a:avLst/>
              <a:gdLst>
                <a:gd name="textAreaLeft" fmla="*/ 0 w 2921760"/>
                <a:gd name="textAreaRight" fmla="*/ 2922120 w 292176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181080" y="2257920"/>
              <a:ext cx="2921760" cy="4412160"/>
            </a:xfrm>
            <a:custGeom>
              <a:avLst/>
              <a:gdLst>
                <a:gd name="textAreaLeft" fmla="*/ 0 w 2921760"/>
                <a:gd name="textAreaRight" fmla="*/ 2922120 w 2921760"/>
                <a:gd name="textAreaTop" fmla="*/ 0 h 4412160"/>
                <a:gd name="textAreaBottom" fmla="*/ 4412520 h 44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f9d6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60" y="981000"/>
              <a:ext cx="2022840" cy="875520"/>
            </a:xfrm>
            <a:prstGeom prst="roundRect">
              <a:avLst>
                <a:gd name="adj" fmla="val 50000"/>
              </a:avLst>
            </a:prstGeom>
            <a:solidFill>
              <a:srgbClr val="3f9d6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 ферме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24160" y="981000"/>
              <a:ext cx="2022840" cy="875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 пруду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13760" y="981000"/>
              <a:ext cx="2022840" cy="875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а пасеке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427" name="Picture 13" descr="dt_6"/>
          <p:cNvPicPr/>
          <p:nvPr/>
        </p:nvPicPr>
        <p:blipFill>
          <a:blip r:embed="rId1"/>
          <a:stretch/>
        </p:blipFill>
        <p:spPr>
          <a:xfrm>
            <a:off x="1835280" y="4508640"/>
            <a:ext cx="863640" cy="7524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28" name="Picture 5" descr="471016"/>
          <p:cNvPicPr/>
          <p:nvPr/>
        </p:nvPicPr>
        <p:blipFill>
          <a:blip r:embed="rId2"/>
          <a:stretch/>
        </p:blipFill>
        <p:spPr>
          <a:xfrm>
            <a:off x="179280" y="2349360"/>
            <a:ext cx="1297080" cy="10512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29" name="Picture 7" descr="IMG0015"/>
          <p:cNvPicPr/>
          <p:nvPr/>
        </p:nvPicPr>
        <p:blipFill>
          <a:blip r:embed="rId3"/>
          <a:stretch/>
        </p:blipFill>
        <p:spPr>
          <a:xfrm>
            <a:off x="3203640" y="5157720"/>
            <a:ext cx="1193760" cy="1357560"/>
          </a:xfrm>
          <a:prstGeom prst="rect">
            <a:avLst/>
          </a:prstGeom>
          <a:ln w="25560">
            <a:solidFill>
              <a:srgbClr val="d60093"/>
            </a:solidFill>
            <a:miter/>
          </a:ln>
        </p:spPr>
      </p:pic>
      <p:pic>
        <p:nvPicPr>
          <p:cNvPr id="430" name="Picture 6" descr="IMG0030"/>
          <p:cNvPicPr/>
          <p:nvPr/>
        </p:nvPicPr>
        <p:blipFill>
          <a:blip r:embed="rId4"/>
          <a:stretch/>
        </p:blipFill>
        <p:spPr>
          <a:xfrm>
            <a:off x="3635280" y="3840120"/>
            <a:ext cx="1297080" cy="1013040"/>
          </a:xfrm>
          <a:prstGeom prst="rect">
            <a:avLst/>
          </a:prstGeom>
          <a:ln w="25560">
            <a:solidFill>
              <a:srgbClr val="d60093"/>
            </a:solidFill>
            <a:miter/>
          </a:ln>
        </p:spPr>
      </p:pic>
      <p:pic>
        <p:nvPicPr>
          <p:cNvPr id="431" name="Picture 5" descr="3"/>
          <p:cNvPicPr/>
          <p:nvPr/>
        </p:nvPicPr>
        <p:blipFill>
          <a:blip r:embed="rId5"/>
          <a:stretch/>
        </p:blipFill>
        <p:spPr>
          <a:xfrm>
            <a:off x="1187280" y="5516640"/>
            <a:ext cx="1079640" cy="7617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32" name="Picture 14" descr="res_Изображение2 012"/>
          <p:cNvPicPr/>
          <p:nvPr/>
        </p:nvPicPr>
        <p:blipFill>
          <a:blip r:embed="rId6"/>
          <a:stretch/>
        </p:blipFill>
        <p:spPr>
          <a:xfrm>
            <a:off x="0" y="5734080"/>
            <a:ext cx="1008000" cy="7970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468360" y="4005360"/>
            <a:ext cx="1368360" cy="10270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8"/>
          <a:stretch/>
        </p:blipFill>
        <p:spPr>
          <a:xfrm>
            <a:off x="1476360" y="2781360"/>
            <a:ext cx="893880" cy="13399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7308720" y="4076640"/>
            <a:ext cx="1619280" cy="1069920"/>
          </a:xfrm>
          <a:prstGeom prst="rect">
            <a:avLst/>
          </a:prstGeom>
          <a:ln w="69840">
            <a:solidFill>
              <a:srgbClr val="ff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7236000" y="5516640"/>
            <a:ext cx="1692000" cy="1127160"/>
          </a:xfrm>
          <a:prstGeom prst="rect">
            <a:avLst/>
          </a:prstGeom>
          <a:ln w="73080">
            <a:solidFill>
              <a:srgbClr val="ff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2987640" y="2492280"/>
            <a:ext cx="1333440" cy="10000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12"/>
          <a:stretch/>
        </p:blipFill>
        <p:spPr>
          <a:xfrm>
            <a:off x="5148360" y="3284640"/>
            <a:ext cx="1866960" cy="2047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7236000" y="2060640"/>
            <a:ext cx="16189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где выращиваю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,норок,оленей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516720" y="4869000"/>
            <a:ext cx="2381040" cy="1790640"/>
          </a:xfrm>
          <a:prstGeom prst="rect">
            <a:avLst/>
          </a:prstGeom>
          <a:ln w="66600">
            <a:solidFill>
              <a:srgbClr val="d60093"/>
            </a:solidFill>
            <a:miter/>
          </a:ln>
        </p:spPr>
      </p:pic>
      <p:pic>
        <p:nvPicPr>
          <p:cNvPr id="441" name="Picture 5" descr="cows_003"/>
          <p:cNvPicPr/>
          <p:nvPr/>
        </p:nvPicPr>
        <p:blipFill>
          <a:blip r:embed="rId2"/>
          <a:stretch/>
        </p:blipFill>
        <p:spPr>
          <a:xfrm>
            <a:off x="5580000" y="189000"/>
            <a:ext cx="3257640" cy="2606760"/>
          </a:xfrm>
          <a:prstGeom prst="rect">
            <a:avLst/>
          </a:prstGeom>
          <a:ln w="66600">
            <a:solidFill>
              <a:srgbClr val="ff00ff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1116000" y="1628640"/>
            <a:ext cx="4254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99ff"/>
              </a:gs>
              <a:gs pos="100000">
                <a:srgbClr val="70b7fe"/>
              </a:gs>
            </a:gsLst>
            <a:lin ang="5400000"/>
          </a:gradFill>
          <a:ln w="856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оярка, скотник,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ветеринар;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32000" y="2708280"/>
            <a:ext cx="41101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85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веровод, зоотехник,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онюх, птичница;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3789360"/>
            <a:ext cx="41036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ff"/>
              </a:gs>
              <a:gs pos="100000">
                <a:srgbClr val="9393fe"/>
              </a:gs>
            </a:gsLst>
            <a:lin ang="5400000"/>
          </a:gradFill>
          <a:ln w="85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инарка, рыбовод, пасечник.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03280" y="189000"/>
            <a:ext cx="4392720" cy="1295280"/>
          </a:xfrm>
          <a:prstGeom prst="roundRect">
            <a:avLst>
              <a:gd name="adj" fmla="val 9106"/>
            </a:avLst>
          </a:prstGeom>
          <a:solidFill>
            <a:srgbClr val="00ccff"/>
          </a:solidFill>
          <a:ln w="856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фессии в 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ивотноводстве: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79280" y="4941720"/>
            <a:ext cx="2340000" cy="1758960"/>
          </a:xfrm>
          <a:prstGeom prst="rect">
            <a:avLst/>
          </a:prstGeom>
          <a:ln w="66600">
            <a:solidFill>
              <a:srgbClr val="d60093"/>
            </a:solidFill>
            <a:miter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127160" cy="2160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3780000" y="4869000"/>
            <a:ext cx="1873080" cy="16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96000" y="3357720"/>
            <a:ext cx="3348000" cy="990360"/>
          </a:xfrm>
          <a:prstGeom prst="roundRect">
            <a:avLst>
              <a:gd name="adj" fmla="val 9106"/>
            </a:avLst>
          </a:prstGeom>
          <a:solidFill>
            <a:srgbClr val="99cc00"/>
          </a:solidFill>
          <a:ln w="85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ие ещё профессии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животноводстве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наете вы?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ст по теме «Животноводство»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453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1" lang="ru-RU" sz="1800" spc="-1" strike="noStrike">
                <a:solidFill>
                  <a:srgbClr val="770d59"/>
                </a:solidFill>
                <a:latin typeface="Calisto MT"/>
              </a:rPr>
              <a:t>1.Для чего люди выращивают домашних животных?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А –что бы животных было больше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Б – для получения продуктов, обеспечивающих полноценную жизнедеятельность человека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В – для улучшения условий жизни животных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        </a:t>
            </a:r>
            <a:r>
              <a:rPr b="1" lang="ru-RU" sz="1800" spc="-1" strike="noStrike">
                <a:solidFill>
                  <a:srgbClr val="770d59"/>
                </a:solidFill>
                <a:latin typeface="Calisto MT"/>
              </a:rPr>
              <a:t>2.Название отрасли, выращивающей кур, перепелов, уток, гусей, страусов и т.п</a:t>
            </a: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А – птицеводство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Б – мелкоптичное животноводство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В – яйцеводство. 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57920" y="1483920"/>
            <a:ext cx="418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0d59"/>
                </a:solidFill>
                <a:latin typeface="Calisto MT"/>
              </a:rPr>
              <a:t>3.Кого выращивают в звероводстве?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А – коров, оленей, телят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Б – черно-бурых лис, норку, ондатру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В – свинью, жука-носорога, лося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0d59"/>
                </a:solidFill>
                <a:latin typeface="Calisto MT"/>
              </a:rPr>
              <a:t>4. Какую продукцию получают в крупнорогатом животноводстве?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А – молоко, сыр, масло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Б – молоко, шкуру.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sto MT"/>
              </a:rPr>
              <a:t>В – молоко, шкуру, мясо. 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тветы к тесту по теме «Животноводство»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53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1" lang="ru-RU" sz="2000" spc="-1" strike="noStrike">
                <a:solidFill>
                  <a:srgbClr val="770d59"/>
                </a:solidFill>
                <a:latin typeface="Calisto MT"/>
              </a:rPr>
              <a:t>1.Для чего люди выращивают домашних животных?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А –что бы животных было больше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sto MT"/>
              </a:rPr>
              <a:t>Б – для получения продуктов, обеспечивающих полноценную жизнедеятельность человека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В – для улучшения условий жизни животных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        </a:t>
            </a:r>
            <a:r>
              <a:rPr b="1" lang="ru-RU" sz="2000" spc="-1" strike="noStrike">
                <a:solidFill>
                  <a:srgbClr val="770d59"/>
                </a:solidFill>
                <a:latin typeface="Calisto MT"/>
              </a:rPr>
              <a:t>2.Название отрасли, выращивающей кур, перепелов, уток, гусей, страусов и т.п</a:t>
            </a: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sto MT"/>
              </a:rPr>
              <a:t>А – птицеводство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Б – мелкоптичное животноводство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В – яйцеводство. 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57920" y="1483920"/>
            <a:ext cx="418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0d59"/>
                </a:solidFill>
                <a:latin typeface="Calisto MT"/>
              </a:rPr>
              <a:t>3.Кого выращивают в звероводстве?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А – коров, оленей, телят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sto MT"/>
              </a:rPr>
              <a:t>Б – черно-бурых лис, норку, ондатру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В – свинью, жука-носорога, лося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0d59"/>
                </a:solidFill>
                <a:latin typeface="Calisto MT"/>
              </a:rPr>
              <a:t>4. Какую продукцию получают в крупнорогатом животноводстве?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А – молоко, сыр, масло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Б – молоко, шкуру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sto MT"/>
              </a:rPr>
              <a:t>В – молоко, шкуру, мясо.</a:t>
            </a:r>
            <a:r>
              <a:rPr b="1" lang="ru-RU" sz="20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318960"/>
            <a:ext cx="850752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де в Краснодарском кра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ожно получить профессию связанную с животноводством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166e"/>
                </a:solidFill>
                <a:latin typeface="Verdana"/>
              </a:rPr>
              <a:t>Краснодарский сельскохозяйственный университет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166e"/>
                </a:solidFill>
                <a:latin typeface="Verdana"/>
              </a:rPr>
              <a:t>Ветеринарный колледж. Станица Венцы-Зоря.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3240000" cy="2490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692360" y="2997360"/>
            <a:ext cx="5832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 п а с и б о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их домашних животных вы знаете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87640" y="1700280"/>
            <a:ext cx="2809800" cy="685800"/>
            <a:chOff x="2987640" y="1700280"/>
            <a:chExt cx="2809800" cy="685800"/>
          </a:xfrm>
        </p:grpSpPr>
        <p:sp>
          <p:nvSpPr>
            <p:cNvPr id="94" name=""/>
            <p:cNvSpPr/>
            <p:nvPr/>
          </p:nvSpPr>
          <p:spPr>
            <a:xfrm>
              <a:off x="3214080" y="1819440"/>
              <a:ext cx="258336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7640" y="1700280"/>
              <a:ext cx="40788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9800" y="1874880"/>
              <a:ext cx="20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рова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9960" y="1798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356000" y="2924280"/>
            <a:ext cx="2519640" cy="685800"/>
            <a:chOff x="4356000" y="2924280"/>
            <a:chExt cx="2519640" cy="685800"/>
          </a:xfrm>
        </p:grpSpPr>
        <p:sp>
          <p:nvSpPr>
            <p:cNvPr id="99" name=""/>
            <p:cNvSpPr/>
            <p:nvPr/>
          </p:nvSpPr>
          <p:spPr>
            <a:xfrm>
              <a:off x="4559040" y="3043440"/>
              <a:ext cx="2316600" cy="457200"/>
            </a:xfrm>
            <a:prstGeom prst="roundRect">
              <a:avLst>
                <a:gd name="adj" fmla="val 16667"/>
              </a:avLst>
            </a:prstGeom>
            <a:solidFill>
              <a:srgbClr val="5bcd8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6000" y="2924280"/>
              <a:ext cx="365760" cy="685800"/>
            </a:xfrm>
            <a:prstGeom prst="diamond">
              <a:avLst/>
            </a:prstGeom>
            <a:solidFill>
              <a:srgbClr val="5bcd8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81080" y="3098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ошадь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57800" y="30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651640" y="4292640"/>
            <a:ext cx="2573280" cy="685800"/>
            <a:chOff x="5651640" y="4292640"/>
            <a:chExt cx="2573280" cy="685800"/>
          </a:xfrm>
        </p:grpSpPr>
        <p:sp>
          <p:nvSpPr>
            <p:cNvPr id="104" name=""/>
            <p:cNvSpPr/>
            <p:nvPr/>
          </p:nvSpPr>
          <p:spPr>
            <a:xfrm>
              <a:off x="5859000" y="4411800"/>
              <a:ext cx="236592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4292640"/>
              <a:ext cx="37332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83560" y="446724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тка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6680" y="439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374160" y="5734080"/>
            <a:ext cx="2366280" cy="685800"/>
            <a:chOff x="6374160" y="5734080"/>
            <a:chExt cx="2366280" cy="685800"/>
          </a:xfrm>
        </p:grpSpPr>
        <p:sp>
          <p:nvSpPr>
            <p:cNvPr id="109" name=""/>
            <p:cNvSpPr/>
            <p:nvPr/>
          </p:nvSpPr>
          <p:spPr>
            <a:xfrm>
              <a:off x="6573240" y="5853240"/>
              <a:ext cx="2167200" cy="457200"/>
            </a:xfrm>
            <a:prstGeom prst="roundRect">
              <a:avLst>
                <a:gd name="adj" fmla="val 16667"/>
              </a:avLst>
            </a:prstGeom>
            <a:solidFill>
              <a:srgbClr val="6c9bbe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83160" y="5734080"/>
              <a:ext cx="342000" cy="685800"/>
            </a:xfrm>
            <a:prstGeom prst="diamond">
              <a:avLst/>
            </a:prstGeom>
            <a:solidFill>
              <a:srgbClr val="6c9bb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87360" y="5908680"/>
              <a:ext cx="171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т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4160" y="583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13" name="Picture 9" descr="cows_001"/>
          <p:cNvPicPr/>
          <p:nvPr/>
        </p:nvPicPr>
        <p:blipFill>
          <a:blip r:embed="rId1"/>
          <a:stretch/>
        </p:blipFill>
        <p:spPr>
          <a:xfrm>
            <a:off x="250920" y="1413000"/>
            <a:ext cx="201600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horses_007"/>
          <p:cNvPicPr/>
          <p:nvPr/>
        </p:nvPicPr>
        <p:blipFill>
          <a:blip r:embed="rId2"/>
          <a:stretch/>
        </p:blipFill>
        <p:spPr>
          <a:xfrm>
            <a:off x="1332000" y="2781360"/>
            <a:ext cx="2122560" cy="173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IMG0030"/>
          <p:cNvPicPr/>
          <p:nvPr/>
        </p:nvPicPr>
        <p:blipFill>
          <a:blip r:embed="rId3"/>
          <a:stretch/>
        </p:blipFill>
        <p:spPr>
          <a:xfrm>
            <a:off x="2843280" y="4076640"/>
            <a:ext cx="2376360" cy="18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284720" y="5400720"/>
            <a:ext cx="1942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ля чего нам домашние животные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468360" y="1125000"/>
            <a:ext cx="7284960" cy="45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166e"/>
                </a:solidFill>
                <a:latin typeface="Monotype Corsiva"/>
              </a:rPr>
              <a:t>Многие домашние животные живут рядом с человеком очень давно – несколько тысяч лет.</a:t>
            </a:r>
            <a:br>
              <a:rPr sz="3200"/>
            </a:br>
            <a:r>
              <a:rPr b="1" lang="ru-RU" sz="3200" spc="-1" strike="noStrike">
                <a:solidFill>
                  <a:srgbClr val="2b166e"/>
                </a:solidFill>
                <a:latin typeface="Monotype Corsiva"/>
              </a:rPr>
              <a:t>Люди приручили их в глубокой древности, приручили и сделали своими надежными помощниками и друзьями.</a:t>
            </a:r>
            <a:br>
              <a:rPr sz="3200"/>
            </a:br>
            <a:r>
              <a:rPr b="1" lang="ru-RU" sz="3200" spc="-1" strike="noStrike">
                <a:solidFill>
                  <a:srgbClr val="2b166e"/>
                </a:solidFill>
                <a:latin typeface="Monotype Corsiva"/>
              </a:rPr>
              <a:t>Трудно было бы человеку без домашних животных, а может без них он просто и не смог бы выжить.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30480" cy="2279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такое животноводство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Животноводство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– </a:t>
            </a: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это отрасль сельского хозяйства, занимающаяся разведением домашних животных,насекомых,рыбы,птицы для того, чтобы получать продукты питания и материалы для изготовления тканей, одежды и обуви.          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2b166e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66ff"/>
                </a:solidFill>
                <a:latin typeface="Verdana"/>
              </a:rPr>
              <a:t>Разведение дома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66ff"/>
                </a:solidFill>
                <a:latin typeface="Verdana"/>
              </a:rPr>
              <a:t>кошек, собак, аквариумных рыбок, комнатных птиц и экзотических животных 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66ff"/>
                </a:solidFill>
                <a:latin typeface="Verdana"/>
              </a:rPr>
              <a:t>не является животноводством!</a:t>
            </a:r>
            <a:endParaRPr b="1" lang="en-US" sz="1800" spc="-1" strike="noStrike">
              <a:solidFill>
                <a:srgbClr val="5bcd81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5992920"/>
            <a:ext cx="115236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92360" y="6048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987640" y="6008760"/>
            <a:ext cx="1131840" cy="84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356000" y="6008760"/>
            <a:ext cx="1203480" cy="849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79280" y="1197000"/>
            <a:ext cx="1042920" cy="782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867280" y="5994360"/>
            <a:ext cx="136692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8136000" y="1125360"/>
            <a:ext cx="1008000" cy="75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68360" y="3716280"/>
            <a:ext cx="865080" cy="64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124000" y="3933720"/>
            <a:ext cx="936720" cy="70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885080" y="3789360"/>
            <a:ext cx="1036800" cy="692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7451640" y="6027840"/>
            <a:ext cx="1252800" cy="830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300720" y="4005360"/>
            <a:ext cx="971640" cy="728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расли животноводства.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1925640" cy="384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3633840"/>
            <a:ext cx="2232000" cy="167940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2160720" cy="162108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2303640" cy="172728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651640" y="3789360"/>
            <a:ext cx="2376360" cy="158580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826920" y="2924280"/>
            <a:ext cx="2876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е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5516640"/>
            <a:ext cx="28767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упнорогато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то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59280" y="5589720"/>
            <a:ext cx="40672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вцеводство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мелкий рогатый скот)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92720" y="3141720"/>
            <a:ext cx="2876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расли животноводства.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39080" y="333360"/>
            <a:ext cx="1204920" cy="240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1152360" cy="86688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1297080" cy="97308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1439640" cy="107964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50920" y="4941720"/>
            <a:ext cx="1368360" cy="912960"/>
          </a:xfrm>
          <a:prstGeom prst="rect">
            <a:avLst/>
          </a:prstGeom>
          <a:ln w="85680">
            <a:solidFill>
              <a:srgbClr val="3f9d6c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>
            <a:off x="250920" y="1700280"/>
            <a:ext cx="115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е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2852640"/>
            <a:ext cx="1513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упнорогато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то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566100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вцеводство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мелкий рогатый скот)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4437000"/>
            <a:ext cx="158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водство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79640" y="98100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ещё отрасли животноводства вы знаете?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268360" y="1628640"/>
            <a:ext cx="2448000" cy="1839960"/>
          </a:xfrm>
          <a:prstGeom prst="rect">
            <a:avLst/>
          </a:prstGeom>
          <a:ln w="73080">
            <a:solidFill>
              <a:srgbClr val="ff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419640" y="3284640"/>
            <a:ext cx="2592360" cy="1942920"/>
          </a:xfrm>
          <a:prstGeom prst="rect">
            <a:avLst/>
          </a:prstGeom>
          <a:ln w="85680">
            <a:solidFill>
              <a:srgbClr val="ff0000"/>
            </a:solidFill>
            <a:miter/>
          </a:ln>
        </p:spPr>
      </p:pic>
      <p:grpSp>
        <p:nvGrpSpPr>
          <p:cNvPr id="157" name=""/>
          <p:cNvGrpSpPr/>
          <p:nvPr/>
        </p:nvGrpSpPr>
        <p:grpSpPr>
          <a:xfrm>
            <a:off x="4284720" y="1773360"/>
            <a:ext cx="2592000" cy="685800"/>
            <a:chOff x="4284720" y="1773360"/>
            <a:chExt cx="2592000" cy="685800"/>
          </a:xfrm>
        </p:grpSpPr>
        <p:sp>
          <p:nvSpPr>
            <p:cNvPr id="158" name=""/>
            <p:cNvSpPr/>
            <p:nvPr/>
          </p:nvSpPr>
          <p:spPr>
            <a:xfrm>
              <a:off x="4493520" y="1892520"/>
              <a:ext cx="238320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4720" y="1773360"/>
              <a:ext cx="37620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9880" y="1947960"/>
              <a:ext cx="187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виноводство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1200" y="1872000"/>
              <a:ext cx="169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96000" y="3500280"/>
            <a:ext cx="2809800" cy="685800"/>
            <a:chOff x="5796000" y="3500280"/>
            <a:chExt cx="2809800" cy="685800"/>
          </a:xfrm>
        </p:grpSpPr>
        <p:sp>
          <p:nvSpPr>
            <p:cNvPr id="163" name=""/>
            <p:cNvSpPr/>
            <p:nvPr/>
          </p:nvSpPr>
          <p:spPr>
            <a:xfrm>
              <a:off x="6022440" y="3619440"/>
              <a:ext cx="258336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6000" y="3500280"/>
              <a:ext cx="40788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8160" y="3674880"/>
              <a:ext cx="20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ероводство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0400" y="3598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0"/>
          <a:stretch/>
        </p:blipFill>
        <p:spPr>
          <a:xfrm>
            <a:off x="4716360" y="4869000"/>
            <a:ext cx="2376720" cy="1728720"/>
          </a:xfrm>
          <a:prstGeom prst="rect">
            <a:avLst/>
          </a:prstGeom>
          <a:ln w="73080">
            <a:solidFill>
              <a:srgbClr val="ff0000"/>
            </a:solidFill>
            <a:miter/>
          </a:ln>
        </p:spPr>
      </p:pic>
      <p:grpSp>
        <p:nvGrpSpPr>
          <p:cNvPr id="168" name=""/>
          <p:cNvGrpSpPr/>
          <p:nvPr/>
        </p:nvGrpSpPr>
        <p:grpSpPr>
          <a:xfrm>
            <a:off x="6585120" y="4941720"/>
            <a:ext cx="2558880" cy="685800"/>
            <a:chOff x="6585120" y="4941720"/>
            <a:chExt cx="2558880" cy="685800"/>
          </a:xfrm>
        </p:grpSpPr>
        <p:sp>
          <p:nvSpPr>
            <p:cNvPr id="169" name=""/>
            <p:cNvSpPr/>
            <p:nvPr/>
          </p:nvSpPr>
          <p:spPr>
            <a:xfrm>
              <a:off x="6791400" y="5060880"/>
              <a:ext cx="235260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85120" y="4941720"/>
              <a:ext cx="37116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5240" y="511632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леневодство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80160" y="5040360"/>
              <a:ext cx="16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5bcd8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99ff"/>
              </a:gs>
              <a:gs pos="100000">
                <a:srgbClr val="70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ясо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ff"/>
              </a:gs>
              <a:gs pos="100000">
                <a:srgbClr val="9393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Шкура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80240" y="3276720"/>
            <a:ext cx="301284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0d59"/>
                </a:solidFill>
                <a:latin typeface="Arial"/>
              </a:rPr>
              <a:t>Крупнорогатое животноводство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78" name="Picture 5" descr="cows_003"/>
          <p:cNvPicPr/>
          <p:nvPr/>
        </p:nvPicPr>
        <p:blipFill>
          <a:blip r:embed="rId1"/>
          <a:stretch/>
        </p:blipFill>
        <p:spPr>
          <a:xfrm>
            <a:off x="4859280" y="189000"/>
            <a:ext cx="3978360" cy="298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588000" y="5067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5099040"/>
            <a:ext cx="2340000" cy="1758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84360" y="333360"/>
            <a:ext cx="61722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получает эта отрасль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63640" y="3544920"/>
            <a:ext cx="1513080" cy="3313080"/>
          </a:xfrm>
          <a:custGeom>
            <a:avLst/>
            <a:gdLst>
              <a:gd name="textAreaLeft" fmla="*/ 60840 w 1513080"/>
              <a:gd name="textAreaRight" fmla="*/ 1452240 w 1513080"/>
              <a:gd name="textAreaTop" fmla="*/ 60840 h 3313080"/>
              <a:gd name="textAreaBottom" fmla="*/ 3252240 h 3313080"/>
            </a:gdLst>
            <a:ahLst/>
            <a:rect l="textAreaLeft" t="textAreaTop" r="textAreaRight" b="textAreaBottom"/>
            <a:pathLst>
              <a:path w="21600" h="47290">
                <a:moveTo>
                  <a:pt x="2969" y="0"/>
                </a:moveTo>
                <a:arcTo wR="2969" hR="2969" stAng="16200000" swAng="-5400000"/>
                <a:lnTo>
                  <a:pt x="0" y="44321"/>
                </a:lnTo>
                <a:arcTo wR="2969" hR="2969" stAng="10800000" swAng="-5400000"/>
                <a:lnTo>
                  <a:pt x="18631" y="4729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ccffff">
              <a:alpha val="31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166e"/>
                </a:solidFill>
                <a:latin typeface="Verdana"/>
              </a:rPr>
              <a:t>Ходит по двору надутый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166e"/>
                </a:solidFill>
                <a:latin typeface="Verdana"/>
              </a:rPr>
              <a:t>Горд, видать, собой как будто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166e"/>
                </a:solidFill>
                <a:latin typeface="Verdana"/>
              </a:rPr>
              <a:t>Раз индейский я петух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b166e"/>
                </a:solidFill>
                <a:latin typeface="Verdana"/>
              </a:rPr>
              <a:t>То один мол стою двух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3716280"/>
            <a:ext cx="1395360" cy="1944720"/>
          </a:xfrm>
          <a:custGeom>
            <a:avLst/>
            <a:gdLst>
              <a:gd name="textAreaLeft" fmla="*/ 56160 w 1395360"/>
              <a:gd name="textAreaRight" fmla="*/ 1339200 w 1395360"/>
              <a:gd name="textAreaTop" fmla="*/ 56160 h 1944720"/>
              <a:gd name="textAreaBottom" fmla="*/ 1888560 h 1944720"/>
            </a:gdLst>
            <a:ahLst/>
            <a:rect l="textAreaLeft" t="textAreaTop" r="textAreaRight" b="textAreaBottom"/>
            <a:pathLst>
              <a:path w="21600" h="30102">
                <a:moveTo>
                  <a:pt x="2969" y="0"/>
                </a:moveTo>
                <a:arcTo wR="2969" hR="2969" stAng="16200000" swAng="-5400000"/>
                <a:lnTo>
                  <a:pt x="0" y="27133"/>
                </a:lnTo>
                <a:arcTo wR="2969" hR="2969" stAng="10800000" swAng="-5400000"/>
                <a:lnTo>
                  <a:pt x="18631" y="301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5bcd81">
              <a:alpha val="31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а кудахчет громко-громко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овет домой к себе цыпленка</a:t>
            </a:r>
            <a:r>
              <a:rPr b="0" lang="ru-RU" sz="1400" spc="-1" strike="noStrike">
                <a:solidFill>
                  <a:srgbClr val="2b166e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7440" y="3213000"/>
            <a:ext cx="1636560" cy="3200400"/>
          </a:xfrm>
          <a:custGeom>
            <a:avLst/>
            <a:gdLst>
              <a:gd name="textAreaLeft" fmla="*/ 65880 w 1636560"/>
              <a:gd name="textAreaRight" fmla="*/ 1570680 w 1636560"/>
              <a:gd name="textAreaTop" fmla="*/ 65880 h 3200400"/>
              <a:gd name="textAreaBottom" fmla="*/ 3134520 h 3200400"/>
            </a:gdLst>
            <a:ahLst/>
            <a:rect l="textAreaLeft" t="textAreaTop" r="textAreaRight" b="textAreaBottom"/>
            <a:pathLst>
              <a:path w="21600" h="42236">
                <a:moveTo>
                  <a:pt x="2969" y="0"/>
                </a:moveTo>
                <a:arcTo wR="2969" hR="2969" stAng="16200000" swAng="-5400000"/>
                <a:lnTo>
                  <a:pt x="0" y="39267"/>
                </a:lnTo>
                <a:arcTo wR="2969" hR="2969" stAng="10800000" swAng="-5400000"/>
                <a:lnTo>
                  <a:pt x="18631" y="4223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5bcd81">
              <a:alpha val="31000"/>
            </a:srgbClr>
          </a:solidFill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Куда эти красные лапки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Шагают босые по травке?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К реке торопливо сбежали и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Громко они прокричали: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Га-га-га!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о выращивают в птицеводстве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3689"/>
              </a:gs>
              <a:gs pos="50000">
                <a:srgbClr val="6666ff"/>
              </a:gs>
              <a:gs pos="100000">
                <a:srgbClr val="36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ff">
                  <a:alpha val="0"/>
                </a:srgbClr>
              </a:gs>
              <a:gs pos="100000">
                <a:srgbClr val="404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c9bb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c9bb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98900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a5366"/>
              </a:gs>
              <a:gs pos="50000">
                <a:srgbClr val="6c9bbe"/>
              </a:gs>
              <a:gs pos="100000">
                <a:srgbClr val="3a5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9162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6c9bbe">
                  <a:alpha val="0"/>
                </a:srgbClr>
              </a:gs>
              <a:gs pos="100000">
                <a:srgbClr val="44627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76360" y="2060640"/>
            <a:ext cx="1290600" cy="1278000"/>
            <a:chOff x="1476360" y="2060640"/>
            <a:chExt cx="1290600" cy="1278000"/>
          </a:xfrm>
        </p:grpSpPr>
        <p:sp>
          <p:nvSpPr>
            <p:cNvPr id="196" name=""/>
            <p:cNvSpPr/>
            <p:nvPr/>
          </p:nvSpPr>
          <p:spPr>
            <a:xfrm>
              <a:off x="1476360" y="20606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2560" y="20674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06240" y="20800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76080" y="21124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bc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16e45"/>
              </a:gs>
              <a:gs pos="50000">
                <a:srgbClr val="5bcd81"/>
              </a:gs>
              <a:gs pos="100000">
                <a:srgbClr val="316e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cd81">
                  <a:alpha val="0"/>
                </a:srgbClr>
              </a:gs>
              <a:gs pos="100000">
                <a:srgbClr val="3981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24360" y="1989000"/>
            <a:ext cx="1295280" cy="1278000"/>
            <a:chOff x="3924360" y="1989000"/>
            <a:chExt cx="1295280" cy="1278000"/>
          </a:xfrm>
        </p:grpSpPr>
        <p:sp>
          <p:nvSpPr>
            <p:cNvPr id="205" name=""/>
            <p:cNvSpPr/>
            <p:nvPr/>
          </p:nvSpPr>
          <p:spPr>
            <a:xfrm>
              <a:off x="3924360" y="1989000"/>
              <a:ext cx="129528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40560" y="1995840"/>
              <a:ext cx="1264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4240" y="2008440"/>
              <a:ext cx="120204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24440" y="2040840"/>
              <a:ext cx="10684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1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59960" y="25052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ы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68800" y="249228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ки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35160" y="250524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и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5157720"/>
            <a:ext cx="1584360" cy="1513080"/>
          </a:xfrm>
          <a:prstGeom prst="roundRect">
            <a:avLst>
              <a:gd name="adj" fmla="val 13745"/>
            </a:avLst>
          </a:prstGeom>
          <a:solidFill>
            <a:srgbClr val="ffcc00">
              <a:alpha val="31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 фазану близкий брат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 пожалуй мелковат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645000"/>
            <a:ext cx="1395360" cy="2808360"/>
          </a:xfrm>
          <a:custGeom>
            <a:avLst/>
            <a:gdLst>
              <a:gd name="textAreaLeft" fmla="*/ 56160 w 1395360"/>
              <a:gd name="textAreaRight" fmla="*/ 1339200 w 1395360"/>
              <a:gd name="textAreaTop" fmla="*/ 56160 h 2808360"/>
              <a:gd name="textAreaBottom" fmla="*/ 2752200 h 2808360"/>
            </a:gdLst>
            <a:ahLst/>
            <a:rect l="textAreaLeft" t="textAreaTop" r="textAreaRight" b="textAreaBottom"/>
            <a:pathLst>
              <a:path w="21600" h="43467">
                <a:moveTo>
                  <a:pt x="2969" y="0"/>
                </a:moveTo>
                <a:arcTo wR="2969" hR="2969" stAng="16200000" swAng="-5400000"/>
                <a:lnTo>
                  <a:pt x="0" y="40498"/>
                </a:lnTo>
                <a:arcTo wR="2969" hR="2969" stAng="10800000" swAng="-5400000"/>
                <a:lnTo>
                  <a:pt x="18631" y="4346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cc99ff">
              <a:alpha val="31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Verdana"/>
              </a:rPr>
              <a:t>Как ни странно эта птица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Verdana"/>
              </a:rPr>
              <a:t>Подняться в небо не стремится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Verdana"/>
              </a:rPr>
              <a:t>А когда к ней страх придет,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Verdana"/>
              </a:rPr>
              <a:t>Головой в песок нырнёт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141720"/>
            <a:ext cx="1873440" cy="1944720"/>
          </a:xfrm>
          <a:custGeom>
            <a:avLst/>
            <a:gdLst>
              <a:gd name="textAreaLeft" fmla="*/ 75240 w 1873440"/>
              <a:gd name="textAreaRight" fmla="*/ 1798200 w 1873440"/>
              <a:gd name="textAreaTop" fmla="*/ 75240 h 1944720"/>
              <a:gd name="textAreaBottom" fmla="*/ 1869480 h 1944720"/>
            </a:gdLst>
            <a:ahLst/>
            <a:rect l="textAreaLeft" t="textAreaTop" r="textAreaRight" b="textAreaBottom"/>
            <a:pathLst>
              <a:path w="21600" h="22422">
                <a:moveTo>
                  <a:pt x="2969" y="0"/>
                </a:moveTo>
                <a:arcTo wR="2969" hR="2969" stAng="16200000" swAng="-5400000"/>
                <a:lnTo>
                  <a:pt x="0" y="19453"/>
                </a:lnTo>
                <a:arcTo wR="2969" hR="2969" stAng="10800000" swAng="-5400000"/>
                <a:lnTo>
                  <a:pt x="18631" y="2242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cc">
              <a:alpha val="31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0d59"/>
                </a:solidFill>
                <a:latin typeface="Verdana"/>
              </a:rPr>
              <a:t>Пёстрая крякуша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0d59"/>
                </a:solidFill>
                <a:latin typeface="Verdana"/>
              </a:rPr>
              <a:t>Ловит лягушку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0d59"/>
                </a:solidFill>
                <a:latin typeface="Verdana"/>
              </a:rPr>
              <a:t>Ходит вразвалочку, спотыкалочкой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1280" y="1268280"/>
            <a:ext cx="1512720" cy="1255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bc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1052640"/>
            <a:ext cx="1368360" cy="1251000"/>
          </a:xfrm>
          <a:prstGeom prst="ellipse">
            <a:avLst/>
          </a:prstGeom>
          <a:gradFill rotWithShape="0">
            <a:gsLst>
              <a:gs pos="0">
                <a:srgbClr val="363689"/>
              </a:gs>
              <a:gs pos="50000">
                <a:srgbClr val="6666ff"/>
              </a:gs>
              <a:gs pos="100000">
                <a:srgbClr val="36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1125360"/>
            <a:ext cx="1224000" cy="1178280"/>
          </a:xfrm>
          <a:prstGeom prst="ellipse">
            <a:avLst/>
          </a:prstGeom>
          <a:gradFill rotWithShape="0">
            <a:gsLst>
              <a:gs pos="0">
                <a:srgbClr val="6c9bbe">
                  <a:alpha val="0"/>
                </a:srgbClr>
              </a:gs>
              <a:gs pos="100000">
                <a:srgbClr val="44627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87640" cy="1844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67280" y="5661000"/>
            <a:ext cx="960480" cy="1030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594480" y="765000"/>
            <a:ext cx="2549520" cy="16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IMG0030"/>
          <p:cNvPicPr/>
          <p:nvPr/>
        </p:nvPicPr>
        <p:blipFill>
          <a:blip r:embed="rId4"/>
          <a:stretch/>
        </p:blipFill>
        <p:spPr>
          <a:xfrm>
            <a:off x="2268360" y="1125360"/>
            <a:ext cx="1657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233800" cy="2421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35280" y="112536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5bc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0876400">
            <a:off x="32400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719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924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97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01920" y="3141720"/>
            <a:ext cx="1846440" cy="1847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13800" y="42847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у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826600">
            <a:off x="13971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03280" y="2997360"/>
            <a:ext cx="1595160" cy="1720440"/>
            <a:chOff x="1403280" y="2997360"/>
            <a:chExt cx="1595160" cy="1720440"/>
          </a:xfrm>
        </p:grpSpPr>
        <p:sp>
          <p:nvSpPr>
            <p:cNvPr id="238" name=""/>
            <p:cNvSpPr/>
            <p:nvPr/>
          </p:nvSpPr>
          <p:spPr>
            <a:xfrm>
              <a:off x="1403280" y="2997360"/>
              <a:ext cx="1595160" cy="1720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23800" y="3007080"/>
              <a:ext cx="1555560" cy="167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39280" y="3023640"/>
              <a:ext cx="1479600" cy="15681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2440" y="3067560"/>
              <a:ext cx="1316520" cy="1271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2320" y="3601440"/>
              <a:ext cx="90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ух,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о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219320" y="25146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90800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8240" y="19130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19040" y="19242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3040" y="194940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99680" y="22575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ясо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15400" y="1747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а 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55" name="Picture 11" descr="3652"/>
          <p:cNvPicPr/>
          <p:nvPr/>
        </p:nvPicPr>
        <p:blipFill>
          <a:blip r:embed="rId2"/>
          <a:stretch/>
        </p:blipFill>
        <p:spPr>
          <a:xfrm>
            <a:off x="5651640" y="692280"/>
            <a:ext cx="3168360" cy="2305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50920" y="189000"/>
            <a:ext cx="66960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ую продукцию получают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тицеводстве?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305000" cy="1989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IMG0015"/>
          <p:cNvPicPr/>
          <p:nvPr/>
        </p:nvPicPr>
        <p:blipFill>
          <a:blip r:embed="rId4"/>
          <a:stretch/>
        </p:blipFill>
        <p:spPr>
          <a:xfrm>
            <a:off x="6802560" y="4194000"/>
            <a:ext cx="2341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6:14:18Z</dcterms:created>
  <dc:creator>Лариса</dc:creator>
  <dc:description/>
  <dc:language>en-US</dc:language>
  <cp:lastModifiedBy>Лариса</cp:lastModifiedBy>
  <dcterms:modified xsi:type="dcterms:W3CDTF">2011-05-20T07:39:41Z</dcterms:modified>
  <cp:revision>5</cp:revision>
  <dc:subject/>
  <dc:title>Животноводство</dc:title>
</cp:coreProperties>
</file>