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gif" ContentType="image/gif"/>
  <Override PartName="/ppt/media/image8.gif" ContentType="image/gif"/>
  <Override PartName="/ppt/media/image16.wmf" ContentType="image/x-wmf"/>
  <Override PartName="/ppt/media/image15.gif" ContentType="image/gif"/>
  <Override PartName="/ppt/media/image14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1.gif" ContentType="image/gi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EE5-EF3D-42D2-996A-FAFB7F3C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D1E-C2D5-4137-B397-FD197C9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A31-0725-4367-B1BE-1A6269A0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83F-57F0-4E52-9036-DE658B7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9DC-F0BD-4361-9EA8-1919D15E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FC68-385B-4BCD-8C83-BDD55A5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2384-97A2-4358-82FA-382DC623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BEAF-7A2D-485C-A95E-C83F8F02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A190-E2D5-40BE-BC1B-640A282C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3C7-522E-484D-81E6-594CB34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D158-D25A-463A-ACA1-D1ACDC9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315-F30C-40FA-AB95-8BCE8952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A5F5-9017-4898-8B53-FF48228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08D6-8E0C-4041-8522-AFEA9C9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791E-C52F-423E-B95C-C22251F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CFF-F2EE-4165-AA9E-1B6F07FA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3F2-26C6-46F4-8FDF-3405B667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C2E-EB29-4CD2-AFE5-9831C365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79D-2EB9-4B65-B2B3-E1C5AA30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0B0-476C-41A4-976D-E7530D5D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F4F-3799-42F7-BE48-42F27BC5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26E-BF33-48B2-A5B9-3B8A08B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6E5-3ADB-4209-9DD1-24C0E5F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41D-41B2-4356-892A-7E8ECE6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F330-A6F2-4D72-958F-C278297F3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16A-78FD-45D1-B246-6FCDF020E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СТИХИ   ДЛЯ   ДЕТЕЙ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И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О   ДЕТЯ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659640" y="333360"/>
            <a:ext cx="2233440" cy="5745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Tahoma"/>
              </a:rPr>
              <a:t>БЫЛ Я МАЛЕНЬКИЙ КОГДА-ТО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Tahoma"/>
              </a:rPr>
              <a:t>И МЕЧТАЛ БЫТЬ МОРЯКОМ.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Tahoma"/>
              </a:rPr>
              <a:t>А ТЕПЕРЬ ХОЧУ, РЕБЯТА,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Tahoma"/>
              </a:rPr>
              <a:t>СТАТЬ КУБАНСКИМ КАЗАКОМ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05400" y="3213000"/>
            <a:ext cx="2552760" cy="310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149560" cy="412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492360" y="5300640"/>
            <a:ext cx="3270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готовила Конаныхина Л.В.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МБОУ СОШ№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.Ладожской Усть-Лабинского район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гадайте, кто будет героем стихов кубанских поэт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8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ыручалоч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таилась кошка в ванно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ет нос от каши манн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легко тайком, за Маш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едать под стулом каш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ирошникова Л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Зи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дворе стоит гор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катаемся с утр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еговик, бедняжка зл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 не может прокатить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.Нестерен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88000" y="141300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1337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81882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Наш путеводитель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сегда летит под облака –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н лёгкий и отважный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Известно всем наверняка,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Что это …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6720" y="3068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мей  бумаж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59640" y="2428920"/>
            <a:ext cx="2089080" cy="1824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20844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аница Брюховецка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димир Дмитриевич Нестеренк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дился в ст. Брюховецкой. Он работал в школе учителем, служил в арм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го стихи печатались в журнале «Костёр», «Мурзилка», «Весёлые картинки», «Колобо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вет вышли 8 книг стихотворений для дете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Ладошка», «Загадочный счёт», «Веснушки», «Моя песенка»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Раз -  загадка. Два – отгадка!», «Сапоги не с той ноги»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ветное желан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209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тихи В.Нестеренко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еснуш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ярких пятнах каждый луг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ая опуш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колько зайчиков вокруг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я земля в веснушк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у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ту молний, грома. В небе - бирюз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ходи из дома, кончилась гроз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ова солнце ясное над рекой, леско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бо подпоясано ярким пояс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солнух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 подсолнушков – тысячи солнышек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сять комбайнов по полю прошло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лныщка  нету. Но всё же светл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3789360"/>
            <a:ext cx="2316240" cy="289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1773000" cy="176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2333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Литературная игра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«Доскажи словечко»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Автор  В.Нестеренко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руглый, сладкий он на вкус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ак матрос одет ( ……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броте учиться н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 кого ? У наших (…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то же знает в зайцах толк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у конечно серый  (…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росёнок любит слуш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мя ласковое – (……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юбит небо и полё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детства каждый  (….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ова – подсказк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арбуз, мамы, волк, Хрюша, самолё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93080" y="5157720"/>
            <a:ext cx="14094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юбовь Климовна Мирошниченко (г.Краснода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елёнок и корова.                         Алёнка и телёно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Шли телёнок и корова.               Собрала букет Алён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оть телёнку мать сурово           Для любимого телён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вторяла «му» да «му»,-          Ест букет телёнок – вкусно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ыло весело ему.                       А Алёнке грустн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рашный варени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ышонок, белый как вареник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д щенком шмыгнул под веник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Щенок всю ночь не спал потом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ясь вареника с хвост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745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ре-рыбо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реке плывёт башма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башмаке -  лягуш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мосту ревёт рыбак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ленький Илюш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гадайся-ка, лягушк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ревёт Илюшк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ерни башмак, п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солёная в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ленький докто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у нашей у Ален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т – в зелёнк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ёс – в зелёнк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пачканный в зелёнк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же нос самой Алён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 цыплёнок от Алёнк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бежал под кучу др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х, не любит он зелён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872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девчонок – докторов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43640" y="40464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5640" y="5065560"/>
            <a:ext cx="2160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таница Медведовская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эт Татьяна Лубянов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276280"/>
            <a:ext cx="756612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снь жаворонка.                           О солныш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жный звон небесной птахи                  Из-за леса показал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чаровывал, манил.                              Шарик ярко-золотой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о чём-то сокровенном                          Это солнышко восходи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амом тайном говорил.                           Над родимою землё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Эта птаха, жаворонок,                            Притаился кот на крыш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еньем соловью под стать.                     Подмигнули воробь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олько петь он может в небе,                 Зря стараешься, усатый,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 на ветке восседать.                           И запели : чьи вы, чьи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12859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6:19:42Z</dcterms:created>
  <dc:creator>Админ</dc:creator>
  <dc:description/>
  <dc:language>en-US</dc:language>
  <cp:lastModifiedBy>1 класс </cp:lastModifiedBy>
  <dcterms:modified xsi:type="dcterms:W3CDTF">2011-05-30T06:11:19Z</dcterms:modified>
  <cp:revision>5</cp:revision>
  <dc:subject/>
  <dc:title>СТИХИ   ДЛЯ   ДЕТЕЙ  И  О   ДЕТЯХ </dc:title>
</cp:coreProperties>
</file>